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EEE-9437-4EB8-97F2-A74042C8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AE2-97EA-4556-A63B-CF8486F3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229-1D39-4D3E-9069-DA902550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6DD-6568-41DE-B732-9BD1D958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01F-BCA1-4AAB-A119-95A2B7C2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30E-8E34-4392-B60B-78A6DF9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A97-D079-4F20-A854-E3780778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ED5-0EA2-416B-B6A9-65793BC8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633-ADB8-4ABE-9608-36E29B6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EF7-BD32-4A11-A4F8-25DB077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C38-F6A1-43F0-A9BE-969816E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67E-FC0E-4F9C-86BA-1A6E641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62B-C22B-4C5D-8DE4-04147BBA7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5"/>
          <p:cNvGrpSpPr/>
          <p:nvPr/>
        </p:nvGrpSpPr>
        <p:grpSpPr>
          <a:xfrm>
            <a:off x="0" y="0"/>
            <a:ext cx="9144000" cy="7238520"/>
            <a:chOff x="0" y="0"/>
            <a:chExt cx="9144000" cy="7238520"/>
          </a:xfrm>
        </p:grpSpPr>
        <p:sp>
          <p:nvSpPr>
            <p:cNvPr id="42" name="Rectangle 76"/>
            <p:cNvSpPr/>
            <p:nvPr/>
          </p:nvSpPr>
          <p:spPr>
            <a:xfrm>
              <a:off x="0" y="2944080"/>
              <a:ext cx="9144000" cy="42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77"/>
            <p:cNvSpPr/>
            <p:nvPr/>
          </p:nvSpPr>
          <p:spPr>
            <a:xfrm>
              <a:off x="0" y="0"/>
              <a:ext cx="9144000" cy="38203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Group 74"/>
          <p:cNvGrpSpPr/>
          <p:nvPr/>
        </p:nvGrpSpPr>
        <p:grpSpPr>
          <a:xfrm>
            <a:off x="114480" y="3174840"/>
            <a:ext cx="8753040" cy="2054520"/>
            <a:chOff x="114480" y="3174840"/>
            <a:chExt cx="8753040" cy="2054520"/>
          </a:xfrm>
        </p:grpSpPr>
        <p:grpSp>
          <p:nvGrpSpPr>
            <p:cNvPr id="45" name="Group 2"/>
            <p:cNvGrpSpPr/>
            <p:nvPr/>
          </p:nvGrpSpPr>
          <p:grpSpPr>
            <a:xfrm>
              <a:off x="114480" y="3416400"/>
              <a:ext cx="8753040" cy="1812960"/>
              <a:chOff x="114480" y="3416400"/>
              <a:chExt cx="8753040" cy="1812960"/>
            </a:xfrm>
          </p:grpSpPr>
          <p:sp>
            <p:nvSpPr>
              <p:cNvPr id="46" name="Text Box 3"/>
              <p:cNvSpPr/>
              <p:nvPr/>
            </p:nvSpPr>
            <p:spPr>
              <a:xfrm>
                <a:off x="470160" y="4837680"/>
                <a:ext cx="804240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ff3300"/>
                    </a:solidFill>
                    <a:uFillTx/>
                    <a:latin typeface="Arial"/>
                  </a:rPr>
                  <a:t>L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ist the parts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dentify a Reminding Word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N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ote a LINCing Story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reate a LINCing Picture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S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elf-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Group 4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48" name="Group 5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49" name="Group 6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grpSp>
                  <p:nvGrpSpPr>
                    <p:cNvPr id="50" name="Group 7"/>
                    <p:cNvGrpSpPr/>
                    <p:nvPr/>
                  </p:nvGrpSpPr>
                  <p:grpSpPr>
                    <a:xfrm>
                      <a:off x="114480" y="3416400"/>
                      <a:ext cx="8753040" cy="1346040"/>
                      <a:chOff x="114480" y="3416400"/>
                      <a:chExt cx="8753040" cy="1346040"/>
                    </a:xfrm>
                  </p:grpSpPr>
                  <p:sp>
                    <p:nvSpPr>
                      <p:cNvPr id="51" name="AutoShape 8"/>
                      <p:cNvSpPr/>
                      <p:nvPr/>
                    </p:nvSpPr>
                    <p:spPr>
                      <a:xfrm>
                        <a:off x="114480" y="3467520"/>
                        <a:ext cx="245124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" name="AutoShape 9"/>
                      <p:cNvSpPr/>
                      <p:nvPr/>
                    </p:nvSpPr>
                    <p:spPr>
                      <a:xfrm>
                        <a:off x="23688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" name="AutoShape 10"/>
                      <p:cNvSpPr/>
                      <p:nvPr/>
                    </p:nvSpPr>
                    <p:spPr>
                      <a:xfrm>
                        <a:off x="2215440" y="3467520"/>
                        <a:ext cx="245052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" name="Group 11"/>
                      <p:cNvGrpSpPr/>
                      <p:nvPr/>
                    </p:nvGrpSpPr>
                    <p:grpSpPr>
                      <a:xfrm>
                        <a:off x="574200" y="3416400"/>
                        <a:ext cx="8293320" cy="1346040"/>
                        <a:chOff x="574200" y="3416400"/>
                        <a:chExt cx="8293320" cy="1346040"/>
                      </a:xfrm>
                    </p:grpSpPr>
                    <p:sp>
                      <p:nvSpPr>
                        <p:cNvPr id="55" name="AutoShape 12"/>
                        <p:cNvSpPr/>
                        <p:nvPr/>
                      </p:nvSpPr>
                      <p:spPr>
                        <a:xfrm>
                          <a:off x="6416640" y="3467520"/>
                          <a:ext cx="245088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AutoShape 13"/>
                        <p:cNvSpPr/>
                        <p:nvPr/>
                      </p:nvSpPr>
                      <p:spPr>
                        <a:xfrm>
                          <a:off x="6539400" y="3596760"/>
                          <a:ext cx="220608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" name="Group 14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1339920"/>
                          <a:chOff x="574200" y="3416400"/>
                          <a:chExt cx="7834320" cy="1339920"/>
                        </a:xfrm>
                      </p:grpSpPr>
                      <p:sp>
                        <p:nvSpPr>
                          <p:cNvPr id="58" name="AutoShape 15"/>
                          <p:cNvSpPr/>
                          <p:nvPr/>
                        </p:nvSpPr>
                        <p:spPr>
                          <a:xfrm>
                            <a:off x="2337120" y="3590280"/>
                            <a:ext cx="2206800" cy="103644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AutoShape 16"/>
                          <p:cNvSpPr/>
                          <p:nvPr/>
                        </p:nvSpPr>
                        <p:spPr>
                          <a:xfrm>
                            <a:off x="4316400" y="3461400"/>
                            <a:ext cx="2450520" cy="12949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AutoShape 17"/>
                          <p:cNvSpPr/>
                          <p:nvPr/>
                        </p:nvSpPr>
                        <p:spPr>
                          <a:xfrm>
                            <a:off x="4438440" y="3590280"/>
                            <a:ext cx="2206800" cy="103644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1" name="Group 18"/>
                          <p:cNvGrpSpPr/>
                          <p:nvPr/>
                        </p:nvGrpSpPr>
                        <p:grpSpPr>
                          <a:xfrm>
                            <a:off x="574200" y="3416400"/>
                            <a:ext cx="7834320" cy="269280"/>
                            <a:chOff x="574200" y="3416400"/>
                            <a:chExt cx="7834320" cy="269280"/>
                          </a:xfrm>
                        </p:grpSpPr>
                        <p:sp>
                          <p:nvSpPr>
                            <p:cNvPr id="62" name="Text Box 19"/>
                            <p:cNvSpPr/>
                            <p:nvPr/>
                          </p:nvSpPr>
                          <p:spPr>
                            <a:xfrm>
                              <a:off x="4759560" y="3416400"/>
                              <a:ext cx="1564920" cy="269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" name="Text Box 20"/>
                            <p:cNvSpPr/>
                            <p:nvPr/>
                          </p:nvSpPr>
                          <p:spPr>
                            <a:xfrm>
                              <a:off x="6877080" y="3416400"/>
                              <a:ext cx="1531440" cy="227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" name="Text Box 21"/>
                            <p:cNvSpPr/>
                            <p:nvPr/>
                          </p:nvSpPr>
                          <p:spPr>
                            <a:xfrm>
                              <a:off x="2675160" y="3416400"/>
                              <a:ext cx="1531080" cy="19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" name="Text Box 22"/>
                            <p:cNvSpPr/>
                            <p:nvPr/>
                          </p:nvSpPr>
                          <p:spPr>
                            <a:xfrm>
                              <a:off x="574200" y="3416400"/>
                              <a:ext cx="1531080" cy="19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" name="Group 23"/>
                        <p:cNvGrpSpPr/>
                        <p:nvPr/>
                      </p:nvGrpSpPr>
                      <p:grpSpPr>
                        <a:xfrm>
                          <a:off x="4227840" y="3544200"/>
                          <a:ext cx="437760" cy="896400"/>
                          <a:chOff x="4227840" y="3544200"/>
                          <a:chExt cx="437760" cy="896400"/>
                        </a:xfrm>
                      </p:grpSpPr>
                      <p:grpSp>
                        <p:nvGrpSpPr>
                          <p:cNvPr id="67" name="Group 24"/>
                          <p:cNvGrpSpPr/>
                          <p:nvPr/>
                        </p:nvGrpSpPr>
                        <p:grpSpPr>
                          <a:xfrm>
                            <a:off x="4342680" y="3544200"/>
                            <a:ext cx="322920" cy="896400"/>
                            <a:chOff x="4342680" y="3544200"/>
                            <a:chExt cx="322920" cy="896400"/>
                          </a:xfrm>
                        </p:grpSpPr>
                        <p:grpSp>
                          <p:nvGrpSpPr>
                            <p:cNvPr id="68" name="Group 25"/>
                            <p:cNvGrpSpPr/>
                            <p:nvPr/>
                          </p:nvGrpSpPr>
                          <p:grpSpPr>
                            <a:xfrm>
                              <a:off x="4342680" y="3598920"/>
                              <a:ext cx="322920" cy="841680"/>
                              <a:chOff x="4342680" y="3598920"/>
                              <a:chExt cx="322920" cy="841680"/>
                            </a:xfrm>
                          </p:grpSpPr>
                          <p:sp>
                            <p:nvSpPr>
                              <p:cNvPr id="69" name="Rectangle 26"/>
                              <p:cNvSpPr/>
                              <p:nvPr/>
                            </p:nvSpPr>
                            <p:spPr>
                              <a:xfrm rot="18886800">
                                <a:off x="4439520" y="3591000"/>
                                <a:ext cx="112320" cy="3204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0" name="Group 27"/>
                              <p:cNvGrpSpPr/>
                              <p:nvPr/>
                            </p:nvGrpSpPr>
                            <p:grpSpPr>
                              <a:xfrm>
                                <a:off x="4457880" y="3830040"/>
                                <a:ext cx="207720" cy="610560"/>
                                <a:chOff x="4457880" y="3830040"/>
                                <a:chExt cx="207720" cy="610560"/>
                              </a:xfrm>
                            </p:grpSpPr>
                            <p:grpSp>
                              <p:nvGrpSpPr>
                                <p:cNvPr id="71" name="Group 28"/>
                                <p:cNvGrpSpPr/>
                                <p:nvPr/>
                              </p:nvGrpSpPr>
                              <p:grpSpPr>
                                <a:xfrm>
                                  <a:off x="4457880" y="4213800"/>
                                  <a:ext cx="207720" cy="226800"/>
                                  <a:chOff x="4457880" y="4213800"/>
                                  <a:chExt cx="207720" cy="226800"/>
                                </a:xfrm>
                              </p:grpSpPr>
                              <p:sp>
                                <p:nvSpPr>
                                  <p:cNvPr id="72" name="Rectangle 2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501080" y="4231440"/>
                                    <a:ext cx="120960" cy="1857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3" name="Line 3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51120" y="4287600"/>
                                    <a:ext cx="113040" cy="1530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4" name="Line 3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461840" y="4221360"/>
                                    <a:ext cx="101160" cy="1364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75" name="Group 32"/>
                                <p:cNvGrpSpPr/>
                                <p:nvPr/>
                              </p:nvGrpSpPr>
                              <p:grpSpPr>
                                <a:xfrm>
                                  <a:off x="4539240" y="3830040"/>
                                  <a:ext cx="120960" cy="453240"/>
                                  <a:chOff x="4539240" y="3830040"/>
                                  <a:chExt cx="120960" cy="453240"/>
                                </a:xfrm>
                              </p:grpSpPr>
                              <p:sp>
                                <p:nvSpPr>
                                  <p:cNvPr id="76" name="Rectangle 33"/>
                                  <p:cNvSpPr/>
                                  <p:nvPr/>
                                </p:nvSpPr>
                                <p:spPr>
                                  <a:xfrm>
                                    <a:off x="4539240" y="3830040"/>
                                    <a:ext cx="120960" cy="437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7" name="Line 34"/>
                                  <p:cNvSpPr/>
                                  <p:nvPr/>
                                </p:nvSpPr>
                                <p:spPr>
                                  <a:xfrm>
                                    <a:off x="4660200" y="3835080"/>
                                    <a:ext cx="0" cy="4482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" name="Line 35"/>
                                  <p:cNvSpPr/>
                                  <p:nvPr/>
                                </p:nvSpPr>
                                <p:spPr>
                                  <a:xfrm>
                                    <a:off x="4539240" y="3851280"/>
                                    <a:ext cx="0" cy="4003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79" name="Line 36"/>
                            <p:cNvSpPr/>
                            <p:nvPr/>
                          </p:nvSpPr>
                          <p:spPr>
                            <a:xfrm flipH="1" flipV="1">
                              <a:off x="4370040" y="3544200"/>
                              <a:ext cx="290880" cy="298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0" name="Line 37"/>
                          <p:cNvSpPr/>
                          <p:nvPr/>
                        </p:nvSpPr>
                        <p:spPr>
                          <a:xfrm flipH="1" flipV="1">
                            <a:off x="4227840" y="3584520"/>
                            <a:ext cx="290880" cy="273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" name="Group 38"/>
                        <p:cNvGrpSpPr/>
                        <p:nvPr/>
                      </p:nvGrpSpPr>
                      <p:grpSpPr>
                        <a:xfrm>
                          <a:off x="6395040" y="3769200"/>
                          <a:ext cx="437760" cy="896400"/>
                          <a:chOff x="6395040" y="3769200"/>
                          <a:chExt cx="437760" cy="896400"/>
                        </a:xfrm>
                      </p:grpSpPr>
                      <p:grpSp>
                        <p:nvGrpSpPr>
                          <p:cNvPr id="82" name="Group 39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96400"/>
                            <a:chOff x="6395040" y="3769200"/>
                            <a:chExt cx="322920" cy="896400"/>
                          </a:xfrm>
                        </p:grpSpPr>
                        <p:grpSp>
                          <p:nvGrpSpPr>
                            <p:cNvPr id="83" name="Group 40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322920" cy="841680"/>
                              <a:chOff x="6395040" y="3769200"/>
                              <a:chExt cx="322920" cy="841680"/>
                            </a:xfrm>
                          </p:grpSpPr>
                          <p:sp>
                            <p:nvSpPr>
                              <p:cNvPr id="84" name="Rectangle 41"/>
                              <p:cNvSpPr/>
                              <p:nvPr/>
                            </p:nvSpPr>
                            <p:spPr>
                              <a:xfrm rot="8086800">
                                <a:off x="6508440" y="4298040"/>
                                <a:ext cx="112320" cy="3204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5" name="Group 42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610560"/>
                                <a:chOff x="6395040" y="3769200"/>
                                <a:chExt cx="207720" cy="610560"/>
                              </a:xfrm>
                            </p:grpSpPr>
                            <p:grpSp>
                              <p:nvGrpSpPr>
                                <p:cNvPr id="86" name="Group 43"/>
                                <p:cNvGrpSpPr/>
                                <p:nvPr/>
                              </p:nvGrpSpPr>
                              <p:grpSpPr>
                                <a:xfrm>
                                  <a:off x="6395040" y="3769200"/>
                                  <a:ext cx="207720" cy="226800"/>
                                  <a:chOff x="6395040" y="3769200"/>
                                  <a:chExt cx="207720" cy="226800"/>
                                </a:xfrm>
                              </p:grpSpPr>
                              <p:sp>
                                <p:nvSpPr>
                                  <p:cNvPr id="87" name="Rectangle 4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438240" y="3792240"/>
                                    <a:ext cx="120960" cy="1857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8" name="Line 4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396480" y="3769200"/>
                                    <a:ext cx="113040" cy="1530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9" name="Line 4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497640" y="3852000"/>
                                    <a:ext cx="101160" cy="1364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90" name="Group 47"/>
                                <p:cNvGrpSpPr/>
                                <p:nvPr/>
                              </p:nvGrpSpPr>
                              <p:grpSpPr>
                                <a:xfrm>
                                  <a:off x="6400440" y="3926520"/>
                                  <a:ext cx="120960" cy="453240"/>
                                  <a:chOff x="6400440" y="3926520"/>
                                  <a:chExt cx="120960" cy="453240"/>
                                </a:xfrm>
                              </p:grpSpPr>
                              <p:sp>
                                <p:nvSpPr>
                                  <p:cNvPr id="91" name="Rectangle 4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400440" y="3942360"/>
                                    <a:ext cx="120960" cy="437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Line 4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400440" y="3926520"/>
                                    <a:ext cx="0" cy="4482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" name="Line 50"/>
                                  <p:cNvSpPr/>
                                  <p:nvPr/>
                                </p:nvSpPr>
                                <p:spPr>
                                  <a:xfrm>
                                    <a:off x="6521400" y="3958200"/>
                                    <a:ext cx="0" cy="4003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94" name="Line 51"/>
                            <p:cNvSpPr/>
                            <p:nvPr/>
                          </p:nvSpPr>
                          <p:spPr>
                            <a:xfrm>
                              <a:off x="6399720" y="4367160"/>
                              <a:ext cx="290880" cy="298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5" name="Line 52"/>
                          <p:cNvSpPr/>
                          <p:nvPr/>
                        </p:nvSpPr>
                        <p:spPr>
                          <a:xfrm>
                            <a:off x="6541920" y="4352040"/>
                            <a:ext cx="290880" cy="273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96" name="Line 53"/>
                      <p:cNvSpPr/>
                      <p:nvPr/>
                    </p:nvSpPr>
                    <p:spPr>
                      <a:xfrm>
                        <a:off x="294480" y="4099680"/>
                        <a:ext cx="1847880" cy="1116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Text Box 54"/>
                      <p:cNvSpPr/>
                      <p:nvPr/>
                    </p:nvSpPr>
                    <p:spPr>
                      <a:xfrm>
                        <a:off x="836640" y="4016520"/>
                        <a:ext cx="1006920" cy="223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Rectangle 55"/>
                      <p:cNvSpPr/>
                      <p:nvPr/>
                    </p:nvSpPr>
                    <p:spPr>
                      <a:xfrm rot="18886800">
                        <a:off x="2365920" y="4349520"/>
                        <a:ext cx="115920" cy="3067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Rectangle 56"/>
                      <p:cNvSpPr/>
                      <p:nvPr/>
                    </p:nvSpPr>
                    <p:spPr>
                      <a:xfrm rot="18886800">
                        <a:off x="2338920" y="3611160"/>
                        <a:ext cx="115200" cy="3074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Rectangle 57"/>
                      <p:cNvSpPr/>
                      <p:nvPr/>
                    </p:nvSpPr>
                    <p:spPr>
                      <a:xfrm rot="2740200">
                        <a:off x="2414160" y="4310280"/>
                        <a:ext cx="104760" cy="1141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1" name="Group 58"/>
                      <p:cNvGrpSpPr/>
                      <p:nvPr/>
                    </p:nvGrpSpPr>
                    <p:grpSpPr>
                      <a:xfrm>
                        <a:off x="2411640" y="3836520"/>
                        <a:ext cx="123480" cy="527040"/>
                        <a:chOff x="2411640" y="3836520"/>
                        <a:chExt cx="123480" cy="527040"/>
                      </a:xfrm>
                    </p:grpSpPr>
                    <p:sp>
                      <p:nvSpPr>
                        <p:cNvPr id="102" name="Rectangle 59"/>
                        <p:cNvSpPr/>
                        <p:nvPr/>
                      </p:nvSpPr>
                      <p:spPr>
                        <a:xfrm>
                          <a:off x="2411640" y="3836520"/>
                          <a:ext cx="123480" cy="50832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" name="Line 60"/>
                        <p:cNvSpPr/>
                        <p:nvPr/>
                      </p:nvSpPr>
                      <p:spPr>
                        <a:xfrm>
                          <a:off x="2535120" y="3842640"/>
                          <a:ext cx="0" cy="520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" name="Line 61"/>
                        <p:cNvSpPr/>
                        <p:nvPr/>
                      </p:nvSpPr>
                      <p:spPr>
                        <a:xfrm>
                          <a:off x="2411640" y="3861360"/>
                          <a:ext cx="0" cy="464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5" name="Line 62"/>
                    <p:cNvSpPr/>
                    <p:nvPr/>
                  </p:nvSpPr>
                  <p:spPr>
                    <a:xfrm>
                      <a:off x="2225880" y="3499920"/>
                      <a:ext cx="309240" cy="31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Line 63"/>
                    <p:cNvSpPr/>
                    <p:nvPr/>
                  </p:nvSpPr>
                  <p:spPr>
                    <a:xfrm>
                      <a:off x="2163960" y="3607920"/>
                      <a:ext cx="253440" cy="26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Line 64"/>
                  <p:cNvSpPr/>
                  <p:nvPr/>
                </p:nvSpPr>
                <p:spPr>
                  <a:xfrm flipH="1">
                    <a:off x="2454840" y="4351320"/>
                    <a:ext cx="86400" cy="1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Line 65"/>
                <p:cNvSpPr/>
                <p:nvPr/>
              </p:nvSpPr>
              <p:spPr>
                <a:xfrm flipH="1">
                  <a:off x="2392920" y="4346280"/>
                  <a:ext cx="10080" cy="1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Text Box 67"/>
            <p:cNvSpPr/>
            <p:nvPr/>
          </p:nvSpPr>
          <p:spPr>
            <a:xfrm>
              <a:off x="800280" y="31748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ew 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68"/>
            <p:cNvSpPr/>
            <p:nvPr/>
          </p:nvSpPr>
          <p:spPr>
            <a:xfrm>
              <a:off x="2476440" y="317484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sential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69"/>
            <p:cNvSpPr/>
            <p:nvPr/>
          </p:nvSpPr>
          <p:spPr>
            <a:xfrm>
              <a:off x="4838760" y="317484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INCing s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70"/>
            <p:cNvSpPr/>
            <p:nvPr/>
          </p:nvSpPr>
          <p:spPr>
            <a:xfrm>
              <a:off x="6819840" y="31748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INCing pi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7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NCS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s a strategy for using key-word mne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8"/>
          <p:cNvGrpSpPr/>
          <p:nvPr/>
        </p:nvGrpSpPr>
        <p:grpSpPr>
          <a:xfrm>
            <a:off x="135000" y="641520"/>
            <a:ext cx="8915400" cy="2022480"/>
            <a:chOff x="135000" y="641520"/>
            <a:chExt cx="8915400" cy="2022480"/>
          </a:xfrm>
        </p:grpSpPr>
        <p:sp>
          <p:nvSpPr>
            <p:cNvPr id="115" name="Rectangle 79"/>
            <p:cNvSpPr/>
            <p:nvPr/>
          </p:nvSpPr>
          <p:spPr>
            <a:xfrm>
              <a:off x="158760" y="641520"/>
              <a:ext cx="1701720" cy="201924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Picture 80" descr="connected_data_big"/>
            <p:cNvPicPr/>
            <p:nvPr/>
          </p:nvPicPr>
          <p:blipFill>
            <a:blip r:embed="rId1"/>
            <a:stretch/>
          </p:blipFill>
          <p:spPr>
            <a:xfrm>
              <a:off x="177840" y="673200"/>
              <a:ext cx="1663560" cy="19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1"/>
            <p:cNvSpPr/>
            <p:nvPr/>
          </p:nvSpPr>
          <p:spPr>
            <a:xfrm>
              <a:off x="504720" y="2141640"/>
              <a:ext cx="85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nemon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2"/>
            <p:cNvSpPr/>
            <p:nvPr/>
          </p:nvSpPr>
          <p:spPr>
            <a:xfrm>
              <a:off x="135000" y="2664000"/>
              <a:ext cx="89154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1365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1367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1368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1369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1370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3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1374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76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1377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8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9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80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1381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2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3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4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85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1386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1387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1388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389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1390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1391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2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3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394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1395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6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7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398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399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0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1401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1402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1403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04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1405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1406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7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8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09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1410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1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2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13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14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15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0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1421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2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3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24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8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1429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1430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1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32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3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1442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1444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1445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1446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1447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50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1451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53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1454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5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6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457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1458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59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60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61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62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1463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1464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1465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66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1467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1468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69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0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71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1472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3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4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75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76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77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1478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1479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1480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81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1482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1483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4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5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86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1487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8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9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90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91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92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97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1498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501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3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4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1506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1508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1509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1510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1511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14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1515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6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17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1518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9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0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21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1522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3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4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5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26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1527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1528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1529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30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1531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1532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3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4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535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1536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7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8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39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40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1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1542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1543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1544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45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1546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1547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48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49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550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1551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52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53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54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55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56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7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8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9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61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1562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3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565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7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8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9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1570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1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1572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1573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1574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1575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6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7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78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1579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0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81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1582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3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4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85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1586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7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8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9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90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1591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1592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1593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94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1595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1596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97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98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599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1600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01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02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603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04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05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1606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1607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1608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609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1610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1611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2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3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614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1615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6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7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618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19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20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1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3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4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25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1626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7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8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29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1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2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3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1638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4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86"/>
          <p:cNvSpPr/>
          <p:nvPr/>
        </p:nvSpPr>
        <p:spPr>
          <a:xfrm>
            <a:off x="2590920" y="5407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Voters choose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8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1649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1650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1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1652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7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9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0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314"/>
          <p:cNvSpPr/>
          <p:nvPr/>
        </p:nvSpPr>
        <p:spPr>
          <a:xfrm flipH="1">
            <a:off x="3115800" y="4392720"/>
            <a:ext cx="1219320" cy="105552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5" name="Group 315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1676" name="Group 316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1677" name="Group 317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1678" name="Group 318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1679" name="Group 319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1680" name="Line 320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81" name="Group 321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1682" name="Oval 322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Oval 323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Oval 324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AutoShape 325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6" name="Line 326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7" name="Line 327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Oval 328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89" name="Line 329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0" name="Oval 330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331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Freeform 332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Oval 333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334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Group 335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1696" name="Oval 336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Oval 337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8" name="Group 338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1699" name="Oval 339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0" name="Group 340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1701" name="Line 341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Oval 342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Line 343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Line 344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Freeform 345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Oval 346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AutoShape 347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Line 348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09" name="AutoShape 349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350"/>
          <p:cNvSpPr/>
          <p:nvPr/>
        </p:nvSpPr>
        <p:spPr>
          <a:xfrm>
            <a:off x="812880" y="19177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ome students may not understand the ter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“representativ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51"/>
          <p:cNvSpPr/>
          <p:nvPr/>
        </p:nvSpPr>
        <p:spPr>
          <a:xfrm>
            <a:off x="3517920" y="238752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never define a term using words in the definition that also need def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3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1714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1716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1717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1718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1719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22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1723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25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1726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7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8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729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1730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1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2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3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34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1735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1736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1737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738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1739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1740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1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2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743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1744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5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6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747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48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9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1750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1751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1752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753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1754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1755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56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57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758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1759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60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61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762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63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64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69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1770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73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5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6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1778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1779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80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81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2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1791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2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1793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1794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1795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1796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7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8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99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1800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1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02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1803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4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06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1807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08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09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0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11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1812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1813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1814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15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1816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1817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18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19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20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1821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22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23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24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25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6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1827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1828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1829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30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1831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1832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3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4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35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1836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7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8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39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40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1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5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6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1847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8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9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50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2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3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1855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1857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1858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1859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1860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63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1864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5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66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1867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8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9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70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1871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2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3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4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75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1876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1877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1878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79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1880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1881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2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3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84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1885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6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7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88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9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0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1891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1892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1893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94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1895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1896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97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98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99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1900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01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02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03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04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05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6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10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1911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2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3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14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6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8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1919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0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1921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1922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1923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1924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5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6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27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1928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9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30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1931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2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3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934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1935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6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7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8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939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1940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1941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1942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943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1944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1945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46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47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48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1949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0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1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52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53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4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1955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1956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1957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958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1959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1960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1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2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63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1964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5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6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67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68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69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0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1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3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74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1975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6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7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78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0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1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2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1987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1997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1998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2000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5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7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8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Line 313"/>
          <p:cNvSpPr/>
          <p:nvPr/>
        </p:nvSpPr>
        <p:spPr>
          <a:xfrm flipH="1">
            <a:off x="3115800" y="4392720"/>
            <a:ext cx="1219320" cy="105552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314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2024" name="Group 315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2025" name="Group 316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2026" name="Group 317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2027" name="Group 318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2028" name="Line 319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29" name="Group 320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2030" name="Oval 321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1" name="Oval 322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2" name="Oval 323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3" name="AutoShape 324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4" name="Line 325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5" name="Line 326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6" name="Oval 327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37" name="Line 328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Oval 329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330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0" name="Freeform 331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Oval 332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AutoShape 333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Group 334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2044" name="Oval 335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Oval 336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Group 337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2047" name="Oval 338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8" name="Group 339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2049" name="Line 340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Oval 341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Line 342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Line 343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Freeform 344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Oval 345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AutoShape 346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Line 347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057" name="AutoShape 348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349"/>
          <p:cNvSpPr/>
          <p:nvPr/>
        </p:nvSpPr>
        <p:spPr>
          <a:xfrm>
            <a:off x="812880" y="19177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ome students may not understand the ter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“representativ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350"/>
          <p:cNvSpPr/>
          <p:nvPr/>
        </p:nvSpPr>
        <p:spPr>
          <a:xfrm>
            <a:off x="3517920" y="238752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never define a term using words in the definition that also need def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351"/>
          <p:cNvSpPr/>
          <p:nvPr/>
        </p:nvSpPr>
        <p:spPr>
          <a:xfrm>
            <a:off x="800280" y="3670200"/>
            <a:ext cx="72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w the definition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352"/>
          <p:cNvSpPr/>
          <p:nvPr/>
        </p:nvSpPr>
        <p:spPr>
          <a:xfrm>
            <a:off x="2440080" y="5373720"/>
            <a:ext cx="170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eople vote for government l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2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2063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2065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2066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2067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2068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71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2072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3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74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2075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6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7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078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2079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0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1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2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3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2084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2085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2086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087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2088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2089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0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1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92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2093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4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5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096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98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2099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2100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2101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02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2103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2104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5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6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07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2108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9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10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111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12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13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4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7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8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2119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0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1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22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4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6" name="Text Box 352"/>
          <p:cNvSpPr/>
          <p:nvPr/>
        </p:nvSpPr>
        <p:spPr>
          <a:xfrm>
            <a:off x="2489040" y="5384880"/>
            <a:ext cx="170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eople vote for government l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8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2129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0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2131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2132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2133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2134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5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6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37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2138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9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40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2141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2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3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4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2145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6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7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8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49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2150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2151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2152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53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2154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2155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56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57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58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2159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0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1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162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63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64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2165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2166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2167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68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2169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2170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1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2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73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2174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5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6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177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78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79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0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1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3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84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2185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6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7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88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0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1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2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2193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2194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95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6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7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2206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7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2208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2209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2210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2211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2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3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14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2215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6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17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2218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9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20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221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2222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3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4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5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26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2227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2228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2229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30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2231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2232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3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4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35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2236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7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8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39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40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41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2242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2243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2244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45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2246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2247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8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9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50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2251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2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3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54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55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56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7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8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9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0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61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2262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65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7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8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9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2270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1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2272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2273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2274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2275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7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78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2279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0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81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2282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3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4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285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2286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7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8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9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90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2291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2292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2293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94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2295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2296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7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8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99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2300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1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2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303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04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5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2306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2307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2308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309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2310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2311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2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3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14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2315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6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7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318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19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20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1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2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3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4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25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2326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7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8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29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1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2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3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2338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4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2348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2349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0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2351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6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8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9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Line 313"/>
          <p:cNvSpPr/>
          <p:nvPr/>
        </p:nvSpPr>
        <p:spPr>
          <a:xfrm>
            <a:off x="4334760" y="4392720"/>
            <a:ext cx="2400120" cy="9032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4" name="Group 314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2375" name="Group 315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2376" name="Group 316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2377" name="Group 317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2378" name="Group 318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2379" name="Line 319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80" name="Group 320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2381" name="Oval 321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2" name="Oval 322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3" name="Oval 323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4" name="AutoShape 324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Line 325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6" name="Line 326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7" name="Oval 327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88" name="Line 328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9" name="Oval 329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Oval 330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Freeform 331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Oval 332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AutoShape 333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4" name="Group 334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2395" name="Oval 335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Oval 336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7" name="Group 337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2398" name="Oval 338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9" name="Group 339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2400" name="Line 340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Oval 341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Line 342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Line 343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Freeform 344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Oval 345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AutoShape 346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Line 347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408" name="AutoShape 348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49"/>
          <p:cNvSpPr/>
          <p:nvPr/>
        </p:nvSpPr>
        <p:spPr>
          <a:xfrm>
            <a:off x="291960" y="1917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picture does not depict notion of many citizens electing someone local to represent them when decisions are made by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51"/>
          <p:cNvSpPr/>
          <p:nvPr/>
        </p:nvSpPr>
        <p:spPr>
          <a:xfrm>
            <a:off x="252360" y="3670200"/>
            <a:ext cx="8345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ow the picture works because the notion of a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“someone being elected to represent many people”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is illustrated a little better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1" name="Group 353"/>
          <p:cNvGrpSpPr/>
          <p:nvPr/>
        </p:nvGrpSpPr>
        <p:grpSpPr>
          <a:xfrm>
            <a:off x="7772400" y="5283360"/>
            <a:ext cx="533520" cy="685800"/>
            <a:chOff x="7772400" y="5283360"/>
            <a:chExt cx="533520" cy="685800"/>
          </a:xfrm>
        </p:grpSpPr>
        <p:sp>
          <p:nvSpPr>
            <p:cNvPr id="2412" name="AutoShape 354"/>
            <p:cNvSpPr/>
            <p:nvPr/>
          </p:nvSpPr>
          <p:spPr>
            <a:xfrm>
              <a:off x="7925040" y="5283360"/>
              <a:ext cx="228600" cy="22860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3" name="Group 355"/>
            <p:cNvGrpSpPr/>
            <p:nvPr/>
          </p:nvGrpSpPr>
          <p:grpSpPr>
            <a:xfrm>
              <a:off x="7772400" y="5397840"/>
              <a:ext cx="533520" cy="571320"/>
              <a:chOff x="7772400" y="5397840"/>
              <a:chExt cx="533520" cy="571320"/>
            </a:xfrm>
          </p:grpSpPr>
          <p:sp>
            <p:nvSpPr>
              <p:cNvPr id="2414" name="AutoShape 356"/>
              <p:cNvSpPr/>
              <p:nvPr/>
            </p:nvSpPr>
            <p:spPr>
              <a:xfrm>
                <a:off x="7772400" y="5397840"/>
                <a:ext cx="533520" cy="5713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Rectangle 357"/>
              <p:cNvSpPr/>
              <p:nvPr/>
            </p:nvSpPr>
            <p:spPr>
              <a:xfrm>
                <a:off x="7772400" y="5651640"/>
                <a:ext cx="533520" cy="190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Rectangle 358"/>
              <p:cNvSpPr/>
              <p:nvPr/>
            </p:nvSpPr>
            <p:spPr>
              <a:xfrm>
                <a:off x="783144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Rectangle 359"/>
              <p:cNvSpPr/>
              <p:nvPr/>
            </p:nvSpPr>
            <p:spPr>
              <a:xfrm>
                <a:off x="795024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Rectangle 360"/>
              <p:cNvSpPr/>
              <p:nvPr/>
            </p:nvSpPr>
            <p:spPr>
              <a:xfrm>
                <a:off x="806868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Rectangle 361"/>
              <p:cNvSpPr/>
              <p:nvPr/>
            </p:nvSpPr>
            <p:spPr>
              <a:xfrm>
                <a:off x="818712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Rectangle 362"/>
              <p:cNvSpPr/>
              <p:nvPr/>
            </p:nvSpPr>
            <p:spPr>
              <a:xfrm>
                <a:off x="7772400" y="5588280"/>
                <a:ext cx="533520" cy="63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1" name="Group 363"/>
          <p:cNvGrpSpPr/>
          <p:nvPr/>
        </p:nvGrpSpPr>
        <p:grpSpPr>
          <a:xfrm>
            <a:off x="6681600" y="5054760"/>
            <a:ext cx="480960" cy="599400"/>
            <a:chOff x="6681600" y="5054760"/>
            <a:chExt cx="480960" cy="599400"/>
          </a:xfrm>
        </p:grpSpPr>
        <p:grpSp>
          <p:nvGrpSpPr>
            <p:cNvPr id="2422" name="Group 364"/>
            <p:cNvGrpSpPr/>
            <p:nvPr/>
          </p:nvGrpSpPr>
          <p:grpSpPr>
            <a:xfrm>
              <a:off x="6681600" y="5159160"/>
              <a:ext cx="176040" cy="294480"/>
              <a:chOff x="6681600" y="5159160"/>
              <a:chExt cx="176040" cy="294480"/>
            </a:xfrm>
          </p:grpSpPr>
          <p:sp>
            <p:nvSpPr>
              <p:cNvPr id="2423" name="Line 365"/>
              <p:cNvSpPr/>
              <p:nvPr/>
            </p:nvSpPr>
            <p:spPr>
              <a:xfrm>
                <a:off x="6777360" y="532260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Line 366"/>
              <p:cNvSpPr/>
              <p:nvPr/>
            </p:nvSpPr>
            <p:spPr>
              <a:xfrm flipH="1">
                <a:off x="6706440" y="5322600"/>
                <a:ext cx="702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Line 367"/>
              <p:cNvSpPr/>
              <p:nvPr/>
            </p:nvSpPr>
            <p:spPr>
              <a:xfrm>
                <a:off x="6777360" y="521784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Line 368"/>
              <p:cNvSpPr/>
              <p:nvPr/>
            </p:nvSpPr>
            <p:spPr>
              <a:xfrm>
                <a:off x="6777360" y="5217840"/>
                <a:ext cx="802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Line 369"/>
              <p:cNvSpPr/>
              <p:nvPr/>
            </p:nvSpPr>
            <p:spPr>
              <a:xfrm flipH="1">
                <a:off x="6681600" y="521784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Oval 370"/>
              <p:cNvSpPr/>
              <p:nvPr/>
            </p:nvSpPr>
            <p:spPr>
              <a:xfrm>
                <a:off x="6742080" y="5159160"/>
                <a:ext cx="9360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Group 371"/>
            <p:cNvGrpSpPr/>
            <p:nvPr/>
          </p:nvGrpSpPr>
          <p:grpSpPr>
            <a:xfrm>
              <a:off x="6833880" y="5101920"/>
              <a:ext cx="176040" cy="294480"/>
              <a:chOff x="6833880" y="5101920"/>
              <a:chExt cx="176040" cy="294480"/>
            </a:xfrm>
          </p:grpSpPr>
          <p:sp>
            <p:nvSpPr>
              <p:cNvPr id="2430" name="Line 372"/>
              <p:cNvSpPr/>
              <p:nvPr/>
            </p:nvSpPr>
            <p:spPr>
              <a:xfrm>
                <a:off x="6929640" y="526536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Line 373"/>
              <p:cNvSpPr/>
              <p:nvPr/>
            </p:nvSpPr>
            <p:spPr>
              <a:xfrm flipH="1">
                <a:off x="6858720" y="5265360"/>
                <a:ext cx="702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Line 374"/>
              <p:cNvSpPr/>
              <p:nvPr/>
            </p:nvSpPr>
            <p:spPr>
              <a:xfrm>
                <a:off x="6929640" y="516060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Line 375"/>
              <p:cNvSpPr/>
              <p:nvPr/>
            </p:nvSpPr>
            <p:spPr>
              <a:xfrm>
                <a:off x="6929640" y="5160600"/>
                <a:ext cx="802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Line 376"/>
              <p:cNvSpPr/>
              <p:nvPr/>
            </p:nvSpPr>
            <p:spPr>
              <a:xfrm flipH="1">
                <a:off x="6833880" y="516060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Oval 377"/>
              <p:cNvSpPr/>
              <p:nvPr/>
            </p:nvSpPr>
            <p:spPr>
              <a:xfrm>
                <a:off x="6894360" y="5101920"/>
                <a:ext cx="9360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Group 378"/>
            <p:cNvGrpSpPr/>
            <p:nvPr/>
          </p:nvGrpSpPr>
          <p:grpSpPr>
            <a:xfrm>
              <a:off x="6986160" y="5054760"/>
              <a:ext cx="176400" cy="294480"/>
              <a:chOff x="6986160" y="5054760"/>
              <a:chExt cx="176400" cy="294480"/>
            </a:xfrm>
          </p:grpSpPr>
          <p:sp>
            <p:nvSpPr>
              <p:cNvPr id="2437" name="Line 379"/>
              <p:cNvSpPr/>
              <p:nvPr/>
            </p:nvSpPr>
            <p:spPr>
              <a:xfrm>
                <a:off x="7081920" y="521820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Line 380"/>
              <p:cNvSpPr/>
              <p:nvPr/>
            </p:nvSpPr>
            <p:spPr>
              <a:xfrm flipH="1">
                <a:off x="7011000" y="5218200"/>
                <a:ext cx="702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Line 381"/>
              <p:cNvSpPr/>
              <p:nvPr/>
            </p:nvSpPr>
            <p:spPr>
              <a:xfrm>
                <a:off x="7081920" y="511344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Line 382"/>
              <p:cNvSpPr/>
              <p:nvPr/>
            </p:nvSpPr>
            <p:spPr>
              <a:xfrm>
                <a:off x="7081920" y="5113440"/>
                <a:ext cx="806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Line 383"/>
              <p:cNvSpPr/>
              <p:nvPr/>
            </p:nvSpPr>
            <p:spPr>
              <a:xfrm flipH="1">
                <a:off x="6986160" y="511344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Oval 384"/>
              <p:cNvSpPr/>
              <p:nvPr/>
            </p:nvSpPr>
            <p:spPr>
              <a:xfrm>
                <a:off x="7047000" y="5054760"/>
                <a:ext cx="9396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3" name="Group 385"/>
            <p:cNvGrpSpPr/>
            <p:nvPr/>
          </p:nvGrpSpPr>
          <p:grpSpPr>
            <a:xfrm>
              <a:off x="6719400" y="5358960"/>
              <a:ext cx="176400" cy="295200"/>
              <a:chOff x="6719400" y="5358960"/>
              <a:chExt cx="176400" cy="295200"/>
            </a:xfrm>
          </p:grpSpPr>
          <p:sp>
            <p:nvSpPr>
              <p:cNvPr id="2444" name="Line 386"/>
              <p:cNvSpPr/>
              <p:nvPr/>
            </p:nvSpPr>
            <p:spPr>
              <a:xfrm>
                <a:off x="6815160" y="552276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Line 387"/>
              <p:cNvSpPr/>
              <p:nvPr/>
            </p:nvSpPr>
            <p:spPr>
              <a:xfrm flipH="1">
                <a:off x="6744240" y="5522760"/>
                <a:ext cx="7020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Line 388"/>
              <p:cNvSpPr/>
              <p:nvPr/>
            </p:nvSpPr>
            <p:spPr>
              <a:xfrm>
                <a:off x="6815160" y="541764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Line 389"/>
              <p:cNvSpPr/>
              <p:nvPr/>
            </p:nvSpPr>
            <p:spPr>
              <a:xfrm>
                <a:off x="6815160" y="5417640"/>
                <a:ext cx="8064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Line 390"/>
              <p:cNvSpPr/>
              <p:nvPr/>
            </p:nvSpPr>
            <p:spPr>
              <a:xfrm flipH="1">
                <a:off x="6719400" y="541764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Oval 391"/>
              <p:cNvSpPr/>
              <p:nvPr/>
            </p:nvSpPr>
            <p:spPr>
              <a:xfrm>
                <a:off x="6780240" y="5358960"/>
                <a:ext cx="93960" cy="61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30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7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Rectangle 2"/>
          <p:cNvSpPr/>
          <p:nvPr/>
        </p:nvSpPr>
        <p:spPr>
          <a:xfrm>
            <a:off x="744480" y="55530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Rectangle 3"/>
          <p:cNvSpPr/>
          <p:nvPr/>
        </p:nvSpPr>
        <p:spPr>
          <a:xfrm>
            <a:off x="1252440" y="5921280"/>
            <a:ext cx="175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3" name="Group 4"/>
          <p:cNvGrpSpPr/>
          <p:nvPr/>
        </p:nvGrpSpPr>
        <p:grpSpPr>
          <a:xfrm>
            <a:off x="344520" y="228600"/>
            <a:ext cx="8647200" cy="6411960"/>
            <a:chOff x="344520" y="228600"/>
            <a:chExt cx="8647200" cy="6411960"/>
          </a:xfrm>
        </p:grpSpPr>
        <p:grpSp>
          <p:nvGrpSpPr>
            <p:cNvPr id="2454" name="Group 5"/>
            <p:cNvGrpSpPr/>
            <p:nvPr/>
          </p:nvGrpSpPr>
          <p:grpSpPr>
            <a:xfrm>
              <a:off x="344520" y="228600"/>
              <a:ext cx="8647200" cy="6411960"/>
              <a:chOff x="344520" y="228600"/>
              <a:chExt cx="8647200" cy="6411960"/>
            </a:xfrm>
          </p:grpSpPr>
          <p:sp>
            <p:nvSpPr>
              <p:cNvPr id="2455" name="Text Box 6"/>
              <p:cNvSpPr/>
              <p:nvPr/>
            </p:nvSpPr>
            <p:spPr>
              <a:xfrm>
                <a:off x="527040" y="6248520"/>
                <a:ext cx="825192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ist the parts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entify a Reminding Word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te a LINCing Story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eate a LINCing Simile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elf-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6" name="Group 7"/>
              <p:cNvGrpSpPr/>
              <p:nvPr/>
            </p:nvGrpSpPr>
            <p:grpSpPr>
              <a:xfrm>
                <a:off x="344520" y="228600"/>
                <a:ext cx="8647200" cy="6006960"/>
                <a:chOff x="344520" y="228600"/>
                <a:chExt cx="8647200" cy="6006960"/>
              </a:xfrm>
            </p:grpSpPr>
            <p:sp>
              <p:nvSpPr>
                <p:cNvPr id="2457" name="Text Box 8"/>
                <p:cNvSpPr/>
                <p:nvPr/>
              </p:nvSpPr>
              <p:spPr>
                <a:xfrm>
                  <a:off x="6400800" y="4624560"/>
                  <a:ext cx="25909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© 2005 Edwin Ellis       www.GraphicOrganizers.com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Text Box 9"/>
                <p:cNvSpPr/>
                <p:nvPr/>
              </p:nvSpPr>
              <p:spPr>
                <a:xfrm>
                  <a:off x="923760" y="228600"/>
                  <a:ext cx="1143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new ter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Text Box 10"/>
                <p:cNvSpPr/>
                <p:nvPr/>
              </p:nvSpPr>
              <p:spPr>
                <a:xfrm>
                  <a:off x="2600280" y="228600"/>
                  <a:ext cx="1828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essential defini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Text Box 11"/>
                <p:cNvSpPr/>
                <p:nvPr/>
              </p:nvSpPr>
              <p:spPr>
                <a:xfrm>
                  <a:off x="4962600" y="228600"/>
                  <a:ext cx="1447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LINCing s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Text Box 12"/>
                <p:cNvSpPr/>
                <p:nvPr/>
              </p:nvSpPr>
              <p:spPr>
                <a:xfrm>
                  <a:off x="6943680" y="228600"/>
                  <a:ext cx="1600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LINCing simi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2" name="Group 13"/>
                <p:cNvGrpSpPr/>
                <p:nvPr/>
              </p:nvGrpSpPr>
              <p:grpSpPr>
                <a:xfrm>
                  <a:off x="344520" y="457200"/>
                  <a:ext cx="8647200" cy="1346040"/>
                  <a:chOff x="344520" y="457200"/>
                  <a:chExt cx="8647200" cy="1346040"/>
                </a:xfrm>
              </p:grpSpPr>
              <p:grpSp>
                <p:nvGrpSpPr>
                  <p:cNvPr id="2463" name="Group 14"/>
                  <p:cNvGrpSpPr/>
                  <p:nvPr/>
                </p:nvGrpSpPr>
                <p:grpSpPr>
                  <a:xfrm>
                    <a:off x="344520" y="457200"/>
                    <a:ext cx="8647200" cy="1346040"/>
                    <a:chOff x="344520" y="457200"/>
                    <a:chExt cx="8647200" cy="1346040"/>
                  </a:xfrm>
                </p:grpSpPr>
                <p:grpSp>
                  <p:nvGrpSpPr>
                    <p:cNvPr id="2464" name="Group 15"/>
                    <p:cNvGrpSpPr/>
                    <p:nvPr/>
                  </p:nvGrpSpPr>
                  <p:grpSpPr>
                    <a:xfrm>
                      <a:off x="344520" y="457200"/>
                      <a:ext cx="8647200" cy="1346040"/>
                      <a:chOff x="344520" y="457200"/>
                      <a:chExt cx="8647200" cy="1346040"/>
                    </a:xfrm>
                  </p:grpSpPr>
                  <p:grpSp>
                    <p:nvGrpSpPr>
                      <p:cNvPr id="2465" name="Group 16"/>
                      <p:cNvGrpSpPr/>
                      <p:nvPr/>
                    </p:nvGrpSpPr>
                    <p:grpSpPr>
                      <a:xfrm>
                        <a:off x="344520" y="457200"/>
                        <a:ext cx="8647200" cy="1346040"/>
                        <a:chOff x="344520" y="457200"/>
                        <a:chExt cx="8647200" cy="1346040"/>
                      </a:xfrm>
                    </p:grpSpPr>
                    <p:grpSp>
                      <p:nvGrpSpPr>
                        <p:cNvPr id="2466" name="Group 17"/>
                        <p:cNvGrpSpPr/>
                        <p:nvPr/>
                      </p:nvGrpSpPr>
                      <p:grpSpPr>
                        <a:xfrm>
                          <a:off x="344520" y="457200"/>
                          <a:ext cx="8647200" cy="1346040"/>
                          <a:chOff x="344520" y="457200"/>
                          <a:chExt cx="8647200" cy="1346040"/>
                        </a:xfrm>
                      </p:grpSpPr>
                      <p:grpSp>
                        <p:nvGrpSpPr>
                          <p:cNvPr id="2467" name="Group 18"/>
                          <p:cNvGrpSpPr/>
                          <p:nvPr/>
                        </p:nvGrpSpPr>
                        <p:grpSpPr>
                          <a:xfrm>
                            <a:off x="344520" y="457200"/>
                            <a:ext cx="8647200" cy="1346040"/>
                            <a:chOff x="344520" y="457200"/>
                            <a:chExt cx="8647200" cy="1346040"/>
                          </a:xfrm>
                        </p:grpSpPr>
                        <p:grpSp>
                          <p:nvGrpSpPr>
                            <p:cNvPr id="2468" name="Group 19"/>
                            <p:cNvGrpSpPr/>
                            <p:nvPr/>
                          </p:nvGrpSpPr>
                          <p:grpSpPr>
                            <a:xfrm>
                              <a:off x="344520" y="457200"/>
                              <a:ext cx="8647200" cy="1346040"/>
                              <a:chOff x="344520" y="457200"/>
                              <a:chExt cx="8647200" cy="1346040"/>
                            </a:xfrm>
                          </p:grpSpPr>
                          <p:grpSp>
                            <p:nvGrpSpPr>
                              <p:cNvPr id="2469" name="Group 20"/>
                              <p:cNvGrpSpPr/>
                              <p:nvPr/>
                            </p:nvGrpSpPr>
                            <p:grpSpPr>
                              <a:xfrm>
                                <a:off x="344520" y="457200"/>
                                <a:ext cx="8647200" cy="1346040"/>
                                <a:chOff x="344520" y="457200"/>
                                <a:chExt cx="8647200" cy="1346040"/>
                              </a:xfrm>
                            </p:grpSpPr>
                            <p:sp>
                              <p:nvSpPr>
                                <p:cNvPr id="2470" name="AutoShape 21"/>
                                <p:cNvSpPr/>
                                <p:nvPr/>
                              </p:nvSpPr>
                              <p:spPr>
                                <a:xfrm>
                                  <a:off x="344520" y="48888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71" name="Group 22"/>
                                <p:cNvGrpSpPr/>
                                <p:nvPr/>
                              </p:nvGrpSpPr>
                              <p:grpSpPr>
                                <a:xfrm>
                                  <a:off x="469800" y="637920"/>
                                  <a:ext cx="2092320" cy="1011240"/>
                                  <a:chOff x="469800" y="63792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472" name="AutoShape 23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63792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73" name="Line 24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113328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74" name="Text Box 25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105408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475" name="Group 26"/>
                                <p:cNvGrpSpPr/>
                                <p:nvPr/>
                              </p:nvGrpSpPr>
                              <p:grpSpPr>
                                <a:xfrm>
                                  <a:off x="698400" y="457200"/>
                                  <a:ext cx="8293320" cy="1346040"/>
                                  <a:chOff x="698400" y="45720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476" name="AutoShape 27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50796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77" name="Group 28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457200"/>
                                    <a:ext cx="8293320" cy="1345680"/>
                                    <a:chOff x="698400" y="45720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478" name="AutoShape 2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50832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9" name="AutoShape 3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63756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Predestination – it doesn’t matter what you want, it’s going to happen anyway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80" name="Group 31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457200"/>
                                      <a:ext cx="7834320" cy="1339920"/>
                                      <a:chOff x="698400" y="45720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481" name="AutoShape 32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63108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Belief that it was God’s will that the US expand its borders to the Pacific &amp; beyond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482" name="AutoShape 33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50220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483" name="AutoShape 34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63108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The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man’s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 destiny was to own the whole thing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84" name="Group 35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457200"/>
                                        <a:ext cx="7834320" cy="269280"/>
                                        <a:chOff x="698400" y="45720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485" name="Text Box 36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45720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486" name="Text Box 37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45720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487" name="Text Box 38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45720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488" name="Text Box 3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45720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489" name="Group 40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585360"/>
                                      <a:ext cx="437760" cy="895680"/>
                                      <a:chOff x="4351680" y="58536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490" name="Group 41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585360"/>
                                        <a:ext cx="322920" cy="895680"/>
                                        <a:chOff x="4466520" y="58536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491" name="Group 42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639720"/>
                                          <a:ext cx="322920" cy="841320"/>
                                          <a:chOff x="4466520" y="63972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492" name="Rectangle 43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63180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493" name="Group 44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870840"/>
                                            <a:ext cx="207720" cy="610200"/>
                                            <a:chOff x="4581720" y="87084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494" name="Group 45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1254240"/>
                                              <a:ext cx="207720" cy="226800"/>
                                              <a:chOff x="4581720" y="125424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495" name="Rectangle 4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127188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496" name="Line 4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132804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497" name="Line 4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126180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498" name="Group 49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870840"/>
                                              <a:ext cx="120960" cy="452880"/>
                                              <a:chOff x="4663080" y="87084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499" name="Rectangle 5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87084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00" name="Line 5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87588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01" name="Line 5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89208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02" name="Line 53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58536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03" name="Line 54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62532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504" name="Group 5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810000"/>
                                      <a:ext cx="437760" cy="895680"/>
                                      <a:chOff x="6518880" y="81000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505" name="Group 56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810000"/>
                                        <a:ext cx="322920" cy="895680"/>
                                        <a:chOff x="6518880" y="81000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506" name="Group 57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810000"/>
                                          <a:ext cx="322920" cy="841320"/>
                                          <a:chOff x="6518880" y="81000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507" name="Rectangle 58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133848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08" name="Group 5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810000"/>
                                            <a:ext cx="207720" cy="610200"/>
                                            <a:chOff x="6518880" y="81000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509" name="Group 6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810000"/>
                                              <a:ext cx="207720" cy="226800"/>
                                              <a:chOff x="6518880" y="81000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510" name="Rectangle 6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83304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1" name="Line 6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81000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2" name="Line 6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89280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513" name="Group 64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967320"/>
                                              <a:ext cx="120960" cy="452880"/>
                                              <a:chOff x="6524280" y="96732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514" name="Rectangle 6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98316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5" name="Line 6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96732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6" name="Line 6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99936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17" name="Line 68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140760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18" name="Line 6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139248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519" name="Rectangle 70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64944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0" name="Line 71"/>
                                <p:cNvSpPr/>
                                <p:nvPr/>
                              </p:nvSpPr>
                              <p:spPr>
                                <a:xfrm>
                                  <a:off x="2419200" y="62064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1" name="Line 72"/>
                                <p:cNvSpPr/>
                                <p:nvPr/>
                              </p:nvSpPr>
                              <p:spPr>
                                <a:xfrm>
                                  <a:off x="2557440" y="92844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2" name="Line 73"/>
                                <p:cNvSpPr/>
                                <p:nvPr/>
                              </p:nvSpPr>
                              <p:spPr>
                                <a:xfrm flipH="1">
                                  <a:off x="2514240" y="135720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3" name="Line 74"/>
                                <p:cNvSpPr/>
                                <p:nvPr/>
                              </p:nvSpPr>
                              <p:spPr>
                                <a:xfrm>
                                  <a:off x="2676600" y="88560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524" name="Line 75"/>
                              <p:cNvSpPr/>
                              <p:nvPr/>
                            </p:nvSpPr>
                            <p:spPr>
                              <a:xfrm flipH="1">
                                <a:off x="2581200" y="137628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5" name="Line 76"/>
                              <p:cNvSpPr/>
                              <p:nvPr/>
                            </p:nvSpPr>
                            <p:spPr>
                              <a:xfrm flipH="1">
                                <a:off x="2666880" y="88560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26" name="Line 77"/>
                            <p:cNvSpPr/>
                            <p:nvPr/>
                          </p:nvSpPr>
                          <p:spPr>
                            <a:xfrm>
                              <a:off x="2290680" y="66168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27" name="Rectangle 78"/>
                          <p:cNvSpPr/>
                          <p:nvPr/>
                        </p:nvSpPr>
                        <p:spPr>
                          <a:xfrm>
                            <a:off x="2562120" y="88092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28" name="Rectangle 79"/>
                        <p:cNvSpPr/>
                        <p:nvPr/>
                      </p:nvSpPr>
                      <p:spPr>
                        <a:xfrm rot="2459400">
                          <a:off x="2544840" y="132228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9" name="Text Box 80"/>
                      <p:cNvSpPr/>
                      <p:nvPr/>
                    </p:nvSpPr>
                    <p:spPr>
                      <a:xfrm>
                        <a:off x="914400" y="101412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30" name="Text Box 81"/>
                    <p:cNvSpPr/>
                    <p:nvPr/>
                  </p:nvSpPr>
                  <p:spPr>
                    <a:xfrm>
                      <a:off x="485640" y="1143000"/>
                      <a:ext cx="19717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Text Box 82"/>
                    <p:cNvSpPr/>
                    <p:nvPr/>
                  </p:nvSpPr>
                  <p:spPr>
                    <a:xfrm>
                      <a:off x="495360" y="77148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2" name="Text Box 83"/>
                  <p:cNvSpPr/>
                  <p:nvPr/>
                </p:nvSpPr>
                <p:spPr>
                  <a:xfrm>
                    <a:off x="558720" y="1231920"/>
                    <a:ext cx="173988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Text Box 84"/>
                  <p:cNvSpPr/>
                  <p:nvPr/>
                </p:nvSpPr>
                <p:spPr>
                  <a:xfrm>
                    <a:off x="558720" y="71136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anifest Destin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4" name="Group 85"/>
                <p:cNvGrpSpPr/>
                <p:nvPr/>
              </p:nvGrpSpPr>
              <p:grpSpPr>
                <a:xfrm>
                  <a:off x="344520" y="4889520"/>
                  <a:ext cx="8647200" cy="1346040"/>
                  <a:chOff x="344520" y="4889520"/>
                  <a:chExt cx="8647200" cy="1346040"/>
                </a:xfrm>
              </p:grpSpPr>
              <p:grpSp>
                <p:nvGrpSpPr>
                  <p:cNvPr id="2535" name="Group 86"/>
                  <p:cNvGrpSpPr/>
                  <p:nvPr/>
                </p:nvGrpSpPr>
                <p:grpSpPr>
                  <a:xfrm>
                    <a:off x="344520" y="4889520"/>
                    <a:ext cx="8647200" cy="1346040"/>
                    <a:chOff x="344520" y="4889520"/>
                    <a:chExt cx="8647200" cy="1346040"/>
                  </a:xfrm>
                </p:grpSpPr>
                <p:grpSp>
                  <p:nvGrpSpPr>
                    <p:cNvPr id="2536" name="Group 87"/>
                    <p:cNvGrpSpPr/>
                    <p:nvPr/>
                  </p:nvGrpSpPr>
                  <p:grpSpPr>
                    <a:xfrm>
                      <a:off x="344520" y="4889520"/>
                      <a:ext cx="8647200" cy="1346040"/>
                      <a:chOff x="344520" y="4889520"/>
                      <a:chExt cx="8647200" cy="1346040"/>
                    </a:xfrm>
                  </p:grpSpPr>
                  <p:grpSp>
                    <p:nvGrpSpPr>
                      <p:cNvPr id="2537" name="Group 88"/>
                      <p:cNvGrpSpPr/>
                      <p:nvPr/>
                    </p:nvGrpSpPr>
                    <p:grpSpPr>
                      <a:xfrm>
                        <a:off x="344520" y="4889520"/>
                        <a:ext cx="8647200" cy="1346040"/>
                        <a:chOff x="344520" y="4889520"/>
                        <a:chExt cx="8647200" cy="1346040"/>
                      </a:xfrm>
                    </p:grpSpPr>
                    <p:grpSp>
                      <p:nvGrpSpPr>
                        <p:cNvPr id="2538" name="Group 89"/>
                        <p:cNvGrpSpPr/>
                        <p:nvPr/>
                      </p:nvGrpSpPr>
                      <p:grpSpPr>
                        <a:xfrm>
                          <a:off x="344520" y="4889520"/>
                          <a:ext cx="8647200" cy="1346040"/>
                          <a:chOff x="344520" y="4889520"/>
                          <a:chExt cx="8647200" cy="1346040"/>
                        </a:xfrm>
                      </p:grpSpPr>
                      <p:grpSp>
                        <p:nvGrpSpPr>
                          <p:cNvPr id="2539" name="Group 90"/>
                          <p:cNvGrpSpPr/>
                          <p:nvPr/>
                        </p:nvGrpSpPr>
                        <p:grpSpPr>
                          <a:xfrm>
                            <a:off x="344520" y="4889520"/>
                            <a:ext cx="8647200" cy="1346040"/>
                            <a:chOff x="344520" y="4889520"/>
                            <a:chExt cx="8647200" cy="1346040"/>
                          </a:xfrm>
                        </p:grpSpPr>
                        <p:grpSp>
                          <p:nvGrpSpPr>
                            <p:cNvPr id="2540" name="Group 91"/>
                            <p:cNvGrpSpPr/>
                            <p:nvPr/>
                          </p:nvGrpSpPr>
                          <p:grpSpPr>
                            <a:xfrm>
                              <a:off x="344520" y="4889520"/>
                              <a:ext cx="8647200" cy="1346040"/>
                              <a:chOff x="344520" y="4889520"/>
                              <a:chExt cx="8647200" cy="1346040"/>
                            </a:xfrm>
                          </p:grpSpPr>
                          <p:grpSp>
                            <p:nvGrpSpPr>
                              <p:cNvPr id="2541" name="Group 92"/>
                              <p:cNvGrpSpPr/>
                              <p:nvPr/>
                            </p:nvGrpSpPr>
                            <p:grpSpPr>
                              <a:xfrm>
                                <a:off x="344520" y="4889520"/>
                                <a:ext cx="8647200" cy="1346040"/>
                                <a:chOff x="344520" y="4889520"/>
                                <a:chExt cx="8647200" cy="1346040"/>
                              </a:xfrm>
                            </p:grpSpPr>
                            <p:sp>
                              <p:nvSpPr>
                                <p:cNvPr id="2542" name="AutoShape 93"/>
                                <p:cNvSpPr/>
                                <p:nvPr/>
                              </p:nvSpPr>
                              <p:spPr>
                                <a:xfrm>
                                  <a:off x="344520" y="492120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43" name="Group 94"/>
                                <p:cNvGrpSpPr/>
                                <p:nvPr/>
                              </p:nvGrpSpPr>
                              <p:grpSpPr>
                                <a:xfrm>
                                  <a:off x="469800" y="5070240"/>
                                  <a:ext cx="2092320" cy="1011240"/>
                                  <a:chOff x="469800" y="507024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544" name="AutoShape 95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507024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45" name="Line 96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556560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46" name="Text Box 97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548640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547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698400" y="4889520"/>
                                  <a:ext cx="8293320" cy="1346040"/>
                                  <a:chOff x="698400" y="488952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548" name="AutoShape 99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494028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49" name="Group 100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4889520"/>
                                    <a:ext cx="8293320" cy="1345680"/>
                                    <a:chOff x="698400" y="488952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550" name="AutoShape 10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494064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51" name="AutoShape 10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506988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Not letting anyone set up a lemonade stand near yours so you can charge more to sell it. 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2" name="Group 103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4889520"/>
                                      <a:ext cx="7834320" cy="1339920"/>
                                      <a:chOff x="698400" y="488952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553" name="AutoShape 104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506340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Zones in China economically controlled by European countries to prevent competition 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554" name="AutoShape 10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493452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555" name="AutoShape 10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506340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My part of China is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here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, so keep your country’s business away so I can keep my prices high..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56" name="Group 10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4889520"/>
                                        <a:ext cx="7834320" cy="269280"/>
                                        <a:chOff x="698400" y="488952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557" name="Text Box 108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488952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58" name="Text Box 10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488952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59" name="Text Box 11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488952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60" name="Text Box 11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488952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561" name="Group 112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5017680"/>
                                      <a:ext cx="437760" cy="895680"/>
                                      <a:chOff x="4351680" y="501768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562" name="Group 113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5017680"/>
                                        <a:ext cx="322920" cy="895680"/>
                                        <a:chOff x="4466520" y="501768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563" name="Group 114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5072040"/>
                                          <a:ext cx="322920" cy="841320"/>
                                          <a:chOff x="4466520" y="507204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564" name="Rectangle 115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506412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65" name="Group 11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5303160"/>
                                            <a:ext cx="207720" cy="610200"/>
                                            <a:chOff x="4581720" y="530316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566" name="Group 117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5686560"/>
                                              <a:ext cx="207720" cy="226800"/>
                                              <a:chOff x="4581720" y="568656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567" name="Rectangle 11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570420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68" name="Line 11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576036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69" name="Line 12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569412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570" name="Group 121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5303160"/>
                                              <a:ext cx="120960" cy="452880"/>
                                              <a:chOff x="4663080" y="530316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571" name="Rectangle 12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530316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72" name="Line 12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530820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73" name="Line 12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532440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74" name="Line 125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501768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75" name="Line 126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505764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576" name="Group 12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5242320"/>
                                      <a:ext cx="437760" cy="895680"/>
                                      <a:chOff x="6518880" y="524232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577" name="Group 12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5242320"/>
                                        <a:ext cx="322920" cy="895680"/>
                                        <a:chOff x="6518880" y="524232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578" name="Group 129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5242320"/>
                                          <a:ext cx="322920" cy="841320"/>
                                          <a:chOff x="6518880" y="524232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579" name="Rectangle 130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577080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80" name="Group 131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5242320"/>
                                            <a:ext cx="207720" cy="610200"/>
                                            <a:chOff x="6518880" y="524232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581" name="Group 132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5242320"/>
                                              <a:ext cx="207720" cy="226800"/>
                                              <a:chOff x="6518880" y="524232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582" name="Rectangle 13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526536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3" name="Line 13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524232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4" name="Line 13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532512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585" name="Group 136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5399640"/>
                                              <a:ext cx="120960" cy="452880"/>
                                              <a:chOff x="6524280" y="539964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586" name="Rectangle 13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541548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7" name="Line 13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539964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8" name="Line 13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543168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89" name="Line 14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583992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90" name="Line 141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582480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591" name="Rectangle 142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508176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2" name="Line 143"/>
                                <p:cNvSpPr/>
                                <p:nvPr/>
                              </p:nvSpPr>
                              <p:spPr>
                                <a:xfrm>
                                  <a:off x="2419200" y="505296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3" name="Line 144"/>
                                <p:cNvSpPr/>
                                <p:nvPr/>
                              </p:nvSpPr>
                              <p:spPr>
                                <a:xfrm>
                                  <a:off x="2557440" y="536076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4" name="Line 145"/>
                                <p:cNvSpPr/>
                                <p:nvPr/>
                              </p:nvSpPr>
                              <p:spPr>
                                <a:xfrm flipH="1">
                                  <a:off x="2514240" y="578952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5" name="Line 146"/>
                                <p:cNvSpPr/>
                                <p:nvPr/>
                              </p:nvSpPr>
                              <p:spPr>
                                <a:xfrm>
                                  <a:off x="2676600" y="531792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596" name="Line 147"/>
                              <p:cNvSpPr/>
                              <p:nvPr/>
                            </p:nvSpPr>
                            <p:spPr>
                              <a:xfrm flipH="1">
                                <a:off x="2581200" y="580860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97" name="Line 148"/>
                              <p:cNvSpPr/>
                              <p:nvPr/>
                            </p:nvSpPr>
                            <p:spPr>
                              <a:xfrm flipH="1">
                                <a:off x="2666880" y="531792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98" name="Line 149"/>
                            <p:cNvSpPr/>
                            <p:nvPr/>
                          </p:nvSpPr>
                          <p:spPr>
                            <a:xfrm>
                              <a:off x="2290680" y="509400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99" name="Rectangle 150"/>
                          <p:cNvSpPr/>
                          <p:nvPr/>
                        </p:nvSpPr>
                        <p:spPr>
                          <a:xfrm>
                            <a:off x="2562120" y="531324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00" name="Rectangle 151"/>
                        <p:cNvSpPr/>
                        <p:nvPr/>
                      </p:nvSpPr>
                      <p:spPr>
                        <a:xfrm rot="2459400">
                          <a:off x="2544840" y="575460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01" name="Text Box 152"/>
                      <p:cNvSpPr/>
                      <p:nvPr/>
                    </p:nvSpPr>
                    <p:spPr>
                      <a:xfrm>
                        <a:off x="914400" y="544644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02" name="Text Box 153"/>
                    <p:cNvSpPr/>
                    <p:nvPr/>
                  </p:nvSpPr>
                  <p:spPr>
                    <a:xfrm>
                      <a:off x="485640" y="557532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3" name="Text Box 154"/>
                    <p:cNvSpPr/>
                    <p:nvPr/>
                  </p:nvSpPr>
                  <p:spPr>
                    <a:xfrm>
                      <a:off x="495360" y="520380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04" name="Text Box 155"/>
                  <p:cNvSpPr/>
                  <p:nvPr/>
                </p:nvSpPr>
                <p:spPr>
                  <a:xfrm>
                    <a:off x="558720" y="566424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3300"/>
                        </a:solidFill>
                        <a:latin typeface="Arial"/>
                      </a:rPr>
                      <a:t>her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Text Box 156"/>
                  <p:cNvSpPr/>
                  <p:nvPr/>
                </p:nvSpPr>
                <p:spPr>
                  <a:xfrm>
                    <a:off x="558720" y="514368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sphere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of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influenc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6" name="Group 157"/>
                <p:cNvGrpSpPr/>
                <p:nvPr/>
              </p:nvGrpSpPr>
              <p:grpSpPr>
                <a:xfrm>
                  <a:off x="344520" y="1933560"/>
                  <a:ext cx="8647200" cy="1346040"/>
                  <a:chOff x="344520" y="1933560"/>
                  <a:chExt cx="8647200" cy="1346040"/>
                </a:xfrm>
              </p:grpSpPr>
              <p:grpSp>
                <p:nvGrpSpPr>
                  <p:cNvPr id="2607" name="Group 158"/>
                  <p:cNvGrpSpPr/>
                  <p:nvPr/>
                </p:nvGrpSpPr>
                <p:grpSpPr>
                  <a:xfrm>
                    <a:off x="344520" y="1933560"/>
                    <a:ext cx="8647200" cy="1346040"/>
                    <a:chOff x="344520" y="1933560"/>
                    <a:chExt cx="8647200" cy="1346040"/>
                  </a:xfrm>
                </p:grpSpPr>
                <p:grpSp>
                  <p:nvGrpSpPr>
                    <p:cNvPr id="2608" name="Group 159"/>
                    <p:cNvGrpSpPr/>
                    <p:nvPr/>
                  </p:nvGrpSpPr>
                  <p:grpSpPr>
                    <a:xfrm>
                      <a:off x="344520" y="1933560"/>
                      <a:ext cx="8647200" cy="1346040"/>
                      <a:chOff x="344520" y="1933560"/>
                      <a:chExt cx="8647200" cy="1346040"/>
                    </a:xfrm>
                  </p:grpSpPr>
                  <p:grpSp>
                    <p:nvGrpSpPr>
                      <p:cNvPr id="2609" name="Group 160"/>
                      <p:cNvGrpSpPr/>
                      <p:nvPr/>
                    </p:nvGrpSpPr>
                    <p:grpSpPr>
                      <a:xfrm>
                        <a:off x="344520" y="1933560"/>
                        <a:ext cx="8647200" cy="1346040"/>
                        <a:chOff x="344520" y="1933560"/>
                        <a:chExt cx="8647200" cy="1346040"/>
                      </a:xfrm>
                    </p:grpSpPr>
                    <p:grpSp>
                      <p:nvGrpSpPr>
                        <p:cNvPr id="2610" name="Group 161"/>
                        <p:cNvGrpSpPr/>
                        <p:nvPr/>
                      </p:nvGrpSpPr>
                      <p:grpSpPr>
                        <a:xfrm>
                          <a:off x="344520" y="1933560"/>
                          <a:ext cx="8647200" cy="1346040"/>
                          <a:chOff x="344520" y="1933560"/>
                          <a:chExt cx="8647200" cy="1346040"/>
                        </a:xfrm>
                      </p:grpSpPr>
                      <p:grpSp>
                        <p:nvGrpSpPr>
                          <p:cNvPr id="2611" name="Group 162"/>
                          <p:cNvGrpSpPr/>
                          <p:nvPr/>
                        </p:nvGrpSpPr>
                        <p:grpSpPr>
                          <a:xfrm>
                            <a:off x="344520" y="1933560"/>
                            <a:ext cx="8647200" cy="1346040"/>
                            <a:chOff x="344520" y="1933560"/>
                            <a:chExt cx="8647200" cy="1346040"/>
                          </a:xfrm>
                        </p:grpSpPr>
                        <p:grpSp>
                          <p:nvGrpSpPr>
                            <p:cNvPr id="2612" name="Group 163"/>
                            <p:cNvGrpSpPr/>
                            <p:nvPr/>
                          </p:nvGrpSpPr>
                          <p:grpSpPr>
                            <a:xfrm>
                              <a:off x="344520" y="1933560"/>
                              <a:ext cx="8647200" cy="1346040"/>
                              <a:chOff x="344520" y="1933560"/>
                              <a:chExt cx="8647200" cy="1346040"/>
                            </a:xfrm>
                          </p:grpSpPr>
                          <p:grpSp>
                            <p:nvGrpSpPr>
                              <p:cNvPr id="2613" name="Group 164"/>
                              <p:cNvGrpSpPr/>
                              <p:nvPr/>
                            </p:nvGrpSpPr>
                            <p:grpSpPr>
                              <a:xfrm>
                                <a:off x="344520" y="1933560"/>
                                <a:ext cx="8647200" cy="1346040"/>
                                <a:chOff x="344520" y="1933560"/>
                                <a:chExt cx="8647200" cy="1346040"/>
                              </a:xfrm>
                            </p:grpSpPr>
                            <p:sp>
                              <p:nvSpPr>
                                <p:cNvPr id="2614" name="AutoShape 165"/>
                                <p:cNvSpPr/>
                                <p:nvPr/>
                              </p:nvSpPr>
                              <p:spPr>
                                <a:xfrm>
                                  <a:off x="344520" y="196524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615" name="Group 166"/>
                                <p:cNvGrpSpPr/>
                                <p:nvPr/>
                              </p:nvGrpSpPr>
                              <p:grpSpPr>
                                <a:xfrm>
                                  <a:off x="469800" y="2114280"/>
                                  <a:ext cx="2092320" cy="1011240"/>
                                  <a:chOff x="469800" y="211428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616" name="AutoShape 167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211428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17" name="Line 168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260964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18" name="Text Box 169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253044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619" name="Group 170"/>
                                <p:cNvGrpSpPr/>
                                <p:nvPr/>
                              </p:nvGrpSpPr>
                              <p:grpSpPr>
                                <a:xfrm>
                                  <a:off x="698400" y="1933560"/>
                                  <a:ext cx="8293320" cy="1346040"/>
                                  <a:chOff x="698400" y="193356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620" name="AutoShape 171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198432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621" name="Group 172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1933560"/>
                                    <a:ext cx="8293320" cy="1345680"/>
                                    <a:chOff x="698400" y="193356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622" name="AutoShape 17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198468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3" name="AutoShape 17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211392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Getting a private club to allow anyone who can pay to use it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24" name="Group 17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1933560"/>
                                      <a:ext cx="7834320" cy="1339920"/>
                                      <a:chOff x="698400" y="193356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625" name="AutoShape 17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21074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British controlled China trade; US wanted it to be open tl all countries so all could benefit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6" name="AutoShape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197856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7" name="AutoShape 17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21074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Open the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door 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to your China store &amp;; let others trade here too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628" name="Group 179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1933560"/>
                                        <a:ext cx="7834320" cy="269280"/>
                                        <a:chOff x="698400" y="193356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629" name="Text Box 18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193356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30" name="Text Box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193356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31" name="Text Box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19335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32" name="Text Box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19335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633" name="Group 18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2061720"/>
                                      <a:ext cx="437760" cy="895680"/>
                                      <a:chOff x="4351680" y="206172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634" name="Group 185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2061720"/>
                                        <a:ext cx="322920" cy="895680"/>
                                        <a:chOff x="4466520" y="206172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635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2116080"/>
                                          <a:ext cx="322920" cy="841320"/>
                                          <a:chOff x="4466520" y="211608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636" name="Rectangle 187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210816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637" name="Group 188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2347200"/>
                                            <a:ext cx="207720" cy="610200"/>
                                            <a:chOff x="4581720" y="234720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638" name="Group 189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2730600"/>
                                              <a:ext cx="207720" cy="226800"/>
                                              <a:chOff x="4581720" y="273060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639" name="Rectangle 19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274824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0" name="Line 19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280440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1" name="Line 19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27381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642" name="Group 193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2347200"/>
                                              <a:ext cx="120960" cy="452880"/>
                                              <a:chOff x="4663080" y="234720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643" name="Rectangle 19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234720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4" name="Line 19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235224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5" name="Line 19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236844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646" name="Line 197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206172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647" name="Line 198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210168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648" name="Group 199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2286360"/>
                                      <a:ext cx="437760" cy="895680"/>
                                      <a:chOff x="6518880" y="228636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649" name="Group 20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2286360"/>
                                        <a:ext cx="322920" cy="895680"/>
                                        <a:chOff x="6518880" y="228636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650" name="Group 201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2286360"/>
                                          <a:ext cx="322920" cy="841320"/>
                                          <a:chOff x="6518880" y="228636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651" name="Rectangle 202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281484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652" name="Group 203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2286360"/>
                                            <a:ext cx="207720" cy="610200"/>
                                            <a:chOff x="6518880" y="228636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653" name="Group 204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2286360"/>
                                              <a:ext cx="207720" cy="226800"/>
                                              <a:chOff x="6518880" y="228636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654" name="Rectangle 20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230940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55" name="Line 20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228636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56" name="Line 20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23691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657" name="Group 208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2443680"/>
                                              <a:ext cx="120960" cy="452880"/>
                                              <a:chOff x="6524280" y="244368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658" name="Rectangle 20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245952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59" name="Line 21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244368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60" name="Line 21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247572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661" name="Line 21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288396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662" name="Line 213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286884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663" name="Rectangle 214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212580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4" name="Line 215"/>
                                <p:cNvSpPr/>
                                <p:nvPr/>
                              </p:nvSpPr>
                              <p:spPr>
                                <a:xfrm>
                                  <a:off x="2419200" y="209700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5" name="Line 216"/>
                                <p:cNvSpPr/>
                                <p:nvPr/>
                              </p:nvSpPr>
                              <p:spPr>
                                <a:xfrm>
                                  <a:off x="2557440" y="240480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6" name="Line 217"/>
                                <p:cNvSpPr/>
                                <p:nvPr/>
                              </p:nvSpPr>
                              <p:spPr>
                                <a:xfrm flipH="1">
                                  <a:off x="2514240" y="283356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7" name="Line 218"/>
                                <p:cNvSpPr/>
                                <p:nvPr/>
                              </p:nvSpPr>
                              <p:spPr>
                                <a:xfrm>
                                  <a:off x="2676600" y="236196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68" name="Line 219"/>
                              <p:cNvSpPr/>
                              <p:nvPr/>
                            </p:nvSpPr>
                            <p:spPr>
                              <a:xfrm flipH="1">
                                <a:off x="2581200" y="285264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69" name="Line 220"/>
                              <p:cNvSpPr/>
                              <p:nvPr/>
                            </p:nvSpPr>
                            <p:spPr>
                              <a:xfrm flipH="1">
                                <a:off x="2666880" y="236196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70" name="Line 221"/>
                            <p:cNvSpPr/>
                            <p:nvPr/>
                          </p:nvSpPr>
                          <p:spPr>
                            <a:xfrm>
                              <a:off x="2290680" y="213804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71" name="Rectangle 222"/>
                          <p:cNvSpPr/>
                          <p:nvPr/>
                        </p:nvSpPr>
                        <p:spPr>
                          <a:xfrm>
                            <a:off x="2562120" y="235728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2" name="Rectangle 223"/>
                        <p:cNvSpPr/>
                        <p:nvPr/>
                      </p:nvSpPr>
                      <p:spPr>
                        <a:xfrm rot="2459400">
                          <a:off x="2544840" y="279864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73" name="Text Box 224"/>
                      <p:cNvSpPr/>
                      <p:nvPr/>
                    </p:nvSpPr>
                    <p:spPr>
                      <a:xfrm>
                        <a:off x="914400" y="249048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74" name="Text Box 225"/>
                    <p:cNvSpPr/>
                    <p:nvPr/>
                  </p:nvSpPr>
                  <p:spPr>
                    <a:xfrm>
                      <a:off x="485640" y="261936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5" name="Text Box 226"/>
                    <p:cNvSpPr/>
                    <p:nvPr/>
                  </p:nvSpPr>
                  <p:spPr>
                    <a:xfrm>
                      <a:off x="495360" y="224784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6" name="Text Box 227"/>
                  <p:cNvSpPr/>
                  <p:nvPr/>
                </p:nvSpPr>
                <p:spPr>
                  <a:xfrm>
                    <a:off x="558720" y="270828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3300"/>
                        </a:solidFill>
                        <a:latin typeface="Arial"/>
                      </a:rPr>
                      <a:t>Open do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Text Box 228"/>
                  <p:cNvSpPr/>
                  <p:nvPr/>
                </p:nvSpPr>
                <p:spPr>
                  <a:xfrm>
                    <a:off x="558720" y="2187720"/>
                    <a:ext cx="1739880" cy="32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Open Door Polic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8" name="Group 229"/>
                <p:cNvGrpSpPr/>
                <p:nvPr/>
              </p:nvGrpSpPr>
              <p:grpSpPr>
                <a:xfrm>
                  <a:off x="344520" y="3411360"/>
                  <a:ext cx="8647200" cy="1346040"/>
                  <a:chOff x="344520" y="3411360"/>
                  <a:chExt cx="8647200" cy="1346040"/>
                </a:xfrm>
              </p:grpSpPr>
              <p:grpSp>
                <p:nvGrpSpPr>
                  <p:cNvPr id="2679" name="Group 230"/>
                  <p:cNvGrpSpPr/>
                  <p:nvPr/>
                </p:nvGrpSpPr>
                <p:grpSpPr>
                  <a:xfrm>
                    <a:off x="344520" y="3411360"/>
                    <a:ext cx="8647200" cy="1346040"/>
                    <a:chOff x="344520" y="3411360"/>
                    <a:chExt cx="8647200" cy="1346040"/>
                  </a:xfrm>
                </p:grpSpPr>
                <p:grpSp>
                  <p:nvGrpSpPr>
                    <p:cNvPr id="2680" name="Group 231"/>
                    <p:cNvGrpSpPr/>
                    <p:nvPr/>
                  </p:nvGrpSpPr>
                  <p:grpSpPr>
                    <a:xfrm>
                      <a:off x="344520" y="3411360"/>
                      <a:ext cx="8647200" cy="1346040"/>
                      <a:chOff x="344520" y="3411360"/>
                      <a:chExt cx="8647200" cy="1346040"/>
                    </a:xfrm>
                  </p:grpSpPr>
                  <p:grpSp>
                    <p:nvGrpSpPr>
                      <p:cNvPr id="2681" name="Group 232"/>
                      <p:cNvGrpSpPr/>
                      <p:nvPr/>
                    </p:nvGrpSpPr>
                    <p:grpSpPr>
                      <a:xfrm>
                        <a:off x="344520" y="3411360"/>
                        <a:ext cx="8647200" cy="1346040"/>
                        <a:chOff x="344520" y="3411360"/>
                        <a:chExt cx="8647200" cy="1346040"/>
                      </a:xfrm>
                    </p:grpSpPr>
                    <p:grpSp>
                      <p:nvGrpSpPr>
                        <p:cNvPr id="2682" name="Group 233"/>
                        <p:cNvGrpSpPr/>
                        <p:nvPr/>
                      </p:nvGrpSpPr>
                      <p:grpSpPr>
                        <a:xfrm>
                          <a:off x="344520" y="3411360"/>
                          <a:ext cx="8647200" cy="1346040"/>
                          <a:chOff x="344520" y="3411360"/>
                          <a:chExt cx="8647200" cy="1346040"/>
                        </a:xfrm>
                      </p:grpSpPr>
                      <p:grpSp>
                        <p:nvGrpSpPr>
                          <p:cNvPr id="2683" name="Group 234"/>
                          <p:cNvGrpSpPr/>
                          <p:nvPr/>
                        </p:nvGrpSpPr>
                        <p:grpSpPr>
                          <a:xfrm>
                            <a:off x="344520" y="3411360"/>
                            <a:ext cx="8647200" cy="1346040"/>
                            <a:chOff x="344520" y="3411360"/>
                            <a:chExt cx="8647200" cy="1346040"/>
                          </a:xfrm>
                        </p:grpSpPr>
                        <p:grpSp>
                          <p:nvGrpSpPr>
                            <p:cNvPr id="2684" name="Group 235"/>
                            <p:cNvGrpSpPr/>
                            <p:nvPr/>
                          </p:nvGrpSpPr>
                          <p:grpSpPr>
                            <a:xfrm>
                              <a:off x="344520" y="3411360"/>
                              <a:ext cx="8647200" cy="1346040"/>
                              <a:chOff x="344520" y="3411360"/>
                              <a:chExt cx="8647200" cy="1346040"/>
                            </a:xfrm>
                          </p:grpSpPr>
                          <p:grpSp>
                            <p:nvGrpSpPr>
                              <p:cNvPr id="2685" name="Group 236"/>
                              <p:cNvGrpSpPr/>
                              <p:nvPr/>
                            </p:nvGrpSpPr>
                            <p:grpSpPr>
                              <a:xfrm>
                                <a:off x="344520" y="3411360"/>
                                <a:ext cx="8647200" cy="1346040"/>
                                <a:chOff x="344520" y="3411360"/>
                                <a:chExt cx="8647200" cy="1346040"/>
                              </a:xfrm>
                            </p:grpSpPr>
                            <p:sp>
                              <p:nvSpPr>
                                <p:cNvPr id="2686" name="AutoShape 237"/>
                                <p:cNvSpPr/>
                                <p:nvPr/>
                              </p:nvSpPr>
                              <p:spPr>
                                <a:xfrm>
                                  <a:off x="344520" y="344304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687" name="Group 238"/>
                                <p:cNvGrpSpPr/>
                                <p:nvPr/>
                              </p:nvGrpSpPr>
                              <p:grpSpPr>
                                <a:xfrm>
                                  <a:off x="469800" y="3592080"/>
                                  <a:ext cx="2092320" cy="1011240"/>
                                  <a:chOff x="469800" y="359208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688" name="AutoShape 239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359208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89" name="Line 240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408744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90" name="Text Box 241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400824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691" name="Group 242"/>
                                <p:cNvGrpSpPr/>
                                <p:nvPr/>
                              </p:nvGrpSpPr>
                              <p:grpSpPr>
                                <a:xfrm>
                                  <a:off x="698400" y="3411360"/>
                                  <a:ext cx="8293320" cy="1346040"/>
                                  <a:chOff x="698400" y="341136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692" name="AutoShape 243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346212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693" name="Group 244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3411360"/>
                                    <a:ext cx="8293320" cy="1345680"/>
                                    <a:chOff x="698400" y="341136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694" name="AutoShape 24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346248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5" name="AutoShape 24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359172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A big brother who takes all your stuff away for himself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96" name="Group 24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3411360"/>
                                      <a:ext cx="7834320" cy="1339920"/>
                                      <a:chOff x="698400" y="341136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697" name="AutoShape 24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35852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A country that uses its power to force weaker countries to do what it wants (sell cheap goods)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98" name="AutoShape 24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345636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99" name="AutoShape 25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35852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The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emperor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 tried to build an empire by forcing countries to do what he wanted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700" name="Group 251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3411360"/>
                                        <a:ext cx="7834320" cy="269280"/>
                                        <a:chOff x="698400" y="341136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701" name="Text Box 25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341136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702" name="Text Box 25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341136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703" name="Text Box 25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34113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704" name="Text Box 25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34113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705" name="Group 25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3539520"/>
                                      <a:ext cx="437760" cy="895680"/>
                                      <a:chOff x="4351680" y="353952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706" name="Group 25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3539520"/>
                                        <a:ext cx="322920" cy="895680"/>
                                        <a:chOff x="4466520" y="353952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707" name="Group 25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3593880"/>
                                          <a:ext cx="322920" cy="841320"/>
                                          <a:chOff x="4466520" y="359388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708" name="Rectangle 259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358596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709" name="Group 260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3825000"/>
                                            <a:ext cx="207720" cy="610200"/>
                                            <a:chOff x="4581720" y="382500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710" name="Group 261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4208400"/>
                                              <a:ext cx="207720" cy="226800"/>
                                              <a:chOff x="4581720" y="420840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711" name="Rectangle 26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422604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2" name="Line 26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428220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3" name="Line 26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42159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714" name="Group 265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3825000"/>
                                              <a:ext cx="120960" cy="452880"/>
                                              <a:chOff x="4663080" y="382500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715" name="Rectangle 26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382500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6" name="Line 26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383004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7" name="Line 26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384624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718" name="Line 269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353952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719" name="Line 270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357948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720" name="Group 271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3764160"/>
                                      <a:ext cx="437760" cy="895680"/>
                                      <a:chOff x="6518880" y="376416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721" name="Group 272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3764160"/>
                                        <a:ext cx="322920" cy="895680"/>
                                        <a:chOff x="6518880" y="376416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722" name="Group 273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3764160"/>
                                          <a:ext cx="322920" cy="841320"/>
                                          <a:chOff x="6518880" y="376416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723" name="Rectangle 274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429264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724" name="Group 275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3764160"/>
                                            <a:ext cx="207720" cy="610200"/>
                                            <a:chOff x="6518880" y="376416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725" name="Group 276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3764160"/>
                                              <a:ext cx="207720" cy="226800"/>
                                              <a:chOff x="6518880" y="376416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726" name="Rectangle 27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378720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27" name="Line 27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376416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28" name="Line 27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38469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729" name="Group 28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3921480"/>
                                              <a:ext cx="120960" cy="452880"/>
                                              <a:chOff x="6524280" y="392148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730" name="Rectangle 28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393732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31" name="Line 28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392148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32" name="Line 28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395352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733" name="Line 2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436176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734" name="Line 28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434664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735" name="Rectangle 286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360360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6" name="Line 287"/>
                                <p:cNvSpPr/>
                                <p:nvPr/>
                              </p:nvSpPr>
                              <p:spPr>
                                <a:xfrm>
                                  <a:off x="2419200" y="357480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7" name="Line 288"/>
                                <p:cNvSpPr/>
                                <p:nvPr/>
                              </p:nvSpPr>
                              <p:spPr>
                                <a:xfrm>
                                  <a:off x="2557440" y="388260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8" name="Line 289"/>
                                <p:cNvSpPr/>
                                <p:nvPr/>
                              </p:nvSpPr>
                              <p:spPr>
                                <a:xfrm flipH="1">
                                  <a:off x="2514240" y="431136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9" name="Line 290"/>
                                <p:cNvSpPr/>
                                <p:nvPr/>
                              </p:nvSpPr>
                              <p:spPr>
                                <a:xfrm>
                                  <a:off x="2676600" y="383976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0" name="Line 291"/>
                              <p:cNvSpPr/>
                              <p:nvPr/>
                            </p:nvSpPr>
                            <p:spPr>
                              <a:xfrm flipH="1">
                                <a:off x="2581200" y="433044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41" name="Line 292"/>
                              <p:cNvSpPr/>
                              <p:nvPr/>
                            </p:nvSpPr>
                            <p:spPr>
                              <a:xfrm flipH="1">
                                <a:off x="2666880" y="383976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742" name="Line 293"/>
                            <p:cNvSpPr/>
                            <p:nvPr/>
                          </p:nvSpPr>
                          <p:spPr>
                            <a:xfrm>
                              <a:off x="2290680" y="361584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743" name="Rectangle 294"/>
                          <p:cNvSpPr/>
                          <p:nvPr/>
                        </p:nvSpPr>
                        <p:spPr>
                          <a:xfrm>
                            <a:off x="2562120" y="383508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44" name="Rectangle 295"/>
                        <p:cNvSpPr/>
                        <p:nvPr/>
                      </p:nvSpPr>
                      <p:spPr>
                        <a:xfrm rot="2459400">
                          <a:off x="2544840" y="427644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45" name="Text Box 296"/>
                      <p:cNvSpPr/>
                      <p:nvPr/>
                    </p:nvSpPr>
                    <p:spPr>
                      <a:xfrm>
                        <a:off x="914400" y="396828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46" name="Text Box 297"/>
                    <p:cNvSpPr/>
                    <p:nvPr/>
                  </p:nvSpPr>
                  <p:spPr>
                    <a:xfrm>
                      <a:off x="485640" y="4097160"/>
                      <a:ext cx="19717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mpe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Text Box 298"/>
                    <p:cNvSpPr/>
                    <p:nvPr/>
                  </p:nvSpPr>
                  <p:spPr>
                    <a:xfrm>
                      <a:off x="495360" y="3725640"/>
                      <a:ext cx="19717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48" name="Text Box 299"/>
                  <p:cNvSpPr/>
                  <p:nvPr/>
                </p:nvSpPr>
                <p:spPr>
                  <a:xfrm>
                    <a:off x="558720" y="4186080"/>
                    <a:ext cx="173988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Text Box 300"/>
                  <p:cNvSpPr/>
                  <p:nvPr/>
                </p:nvSpPr>
                <p:spPr>
                  <a:xfrm>
                    <a:off x="558720" y="3665520"/>
                    <a:ext cx="173988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50" name="Text Box 301"/>
            <p:cNvSpPr/>
            <p:nvPr/>
          </p:nvSpPr>
          <p:spPr>
            <a:xfrm>
              <a:off x="6883560" y="60948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Text Box 302"/>
            <p:cNvSpPr/>
            <p:nvPr/>
          </p:nvSpPr>
          <p:spPr>
            <a:xfrm>
              <a:off x="6883560" y="209088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Text Box 303"/>
            <p:cNvSpPr/>
            <p:nvPr/>
          </p:nvSpPr>
          <p:spPr>
            <a:xfrm>
              <a:off x="6883560" y="35719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Text Box 304"/>
            <p:cNvSpPr/>
            <p:nvPr/>
          </p:nvSpPr>
          <p:spPr>
            <a:xfrm>
              <a:off x="6883560" y="505476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41c"/>
                </a:solidFill>
                <a:latin typeface="Comic Sans MS"/>
              </a:rPr>
              <a:t>Why do LINCS work so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1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aff"/>
                </a:solidFill>
                <a:latin typeface="Comic Sans MS"/>
              </a:rPr>
              <a:t>Process of condensing the definition to its essential par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1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aff"/>
                </a:solidFill>
                <a:latin typeface="Comic Sans MS"/>
              </a:rPr>
              <a:t>focuses students’ attention on what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1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aff"/>
                </a:solidFill>
                <a:latin typeface="Comic Sans MS"/>
              </a:rPr>
              <a:t>causes elaboration via summariz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2eff"/>
                </a:solidFill>
                <a:latin typeface="Comic Sans MS"/>
              </a:rPr>
              <a:t>Creating LINCing stories &amp; pictu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More focus on meaning of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More 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Strong background knowledg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Taps into visual &amp; auditory modes of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Rectangle 5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Rectangle 6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0" name="Group 10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761" name="Text Box 11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2" name="Group 12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763" name="Group 13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2764" name="Group 14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2765" name="Group 15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2766" name="AutoShape 16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AutoShape 17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AutoShape 18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69" name="Group 19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2770" name="AutoShape 20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1" name="AutoShape 21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72" name="Group 22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2773" name="AutoShape 23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4" name="AutoShape 24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5" name="AutoShape 25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776" name="Group 26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2777" name="Text Box 27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8" name="Text Box 28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9" name="Text Box 29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0" name="Text Box 30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31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2782" name="Group 32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2783" name="Group 33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2784" name="Rectangle 34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785" name="Group 35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2786" name="Group 36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2787" name="Rectangle 37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8" name="Line 38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9" name="Line 39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90" name="Group 40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2791" name="Rectangle 41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92" name="Line 42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93" name="Line 43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794" name="Line 44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95" name="Line 45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96" name="Group 46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2797" name="Group 47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2798" name="Group 48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2799" name="Rectangle 49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00" name="Group 50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2801" name="Group 51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2802" name="Rectangle 52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3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4" name="Line 54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05" name="Group 55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2806" name="Rectangle 56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7" name="Line 57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8" name="Line 58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809" name="Line 59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10" name="Line 60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11" name="Line 61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2" name="Text Box 62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3" name="Rectangle 63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4" name="Rectangle 64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Rectangle 65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6" name="Group 66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2817" name="Rectangle 67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8" name="Line 68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9" name="Line 69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20" name="Line 70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Line 71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2" name="Line 72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3" name="Line 73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4" name="Text Box 74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Text Box 75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Text Box 76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Text Box 77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Text Box 78"/>
          <p:cNvSpPr/>
          <p:nvPr/>
        </p:nvSpPr>
        <p:spPr>
          <a:xfrm>
            <a:off x="741240" y="37702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ra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Text Box 143"/>
          <p:cNvSpPr/>
          <p:nvPr/>
        </p:nvSpPr>
        <p:spPr>
          <a:xfrm>
            <a:off x="2690640" y="382896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 legal assistant with limited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Text Box 144"/>
          <p:cNvSpPr/>
          <p:nvPr/>
        </p:nvSpPr>
        <p:spPr>
          <a:xfrm>
            <a:off x="833400" y="4308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ach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1" name="Group 14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2832" name="Text Box 145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ost kids will know what a parachute is, thus it has a familiar 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Line 146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Rectangle 4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Rectangle 5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8" name="Group 6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839" name="Text Box 7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0" name="Group 8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841" name="Group 9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2842" name="Group 10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2843" name="Group 11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2844" name="AutoShape 12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5" name="AutoShape 13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AutoShape 14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47" name="Group 15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2848" name="AutoShape 16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9" name="AutoShape 17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50" name="Group 18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2851" name="AutoShape 19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2" name="AutoShape 20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3" name="AutoShape 21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4" name="Group 22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2855" name="Text Box 23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6" name="Text Box 24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7" name="Text Box 25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8" name="Text Box 26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9" name="Group 27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2860" name="Group 28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2861" name="Group 29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2862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63" name="Group 31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2864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2865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6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7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68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2869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70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71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872" name="Line 40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73" name="Line 41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74" name="Group 42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2875" name="Group 43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2876" name="Group 44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2877" name="Rectangle 45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78" name="Group 46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2879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2880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2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83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2884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5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6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887" name="Line 55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88" name="Line 56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89" name="Line 57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Text Box 58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Rectangle 59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Rectangle 60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Rectangle 61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94" name="Group 62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2895" name="Rectangle 63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6" name="Line 64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7" name="Line 65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98" name="Line 66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Line 67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0" name="Line 68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1" name="Line 69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2" name="Text Box 70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Text Box 71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Text Box 72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Text Box 73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Text Box 74"/>
          <p:cNvSpPr/>
          <p:nvPr/>
        </p:nvSpPr>
        <p:spPr>
          <a:xfrm>
            <a:off x="741240" y="37702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ra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75"/>
          <p:cNvSpPr/>
          <p:nvPr/>
        </p:nvSpPr>
        <p:spPr>
          <a:xfrm>
            <a:off x="2690640" y="382896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 legal assistant with limited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76"/>
          <p:cNvSpPr/>
          <p:nvPr/>
        </p:nvSpPr>
        <p:spPr>
          <a:xfrm>
            <a:off x="571680" y="427680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ame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9" name="Group 7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2910" name="Text Box 78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Some kids may have heard the term, but </a:t>
              </a:r>
              <a:r>
                <a:rPr b="0" i="1" lang="en-US" sz="24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few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 will have any idea what it 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Line 79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2" name="Text Box 80"/>
          <p:cNvSpPr/>
          <p:nvPr/>
        </p:nvSpPr>
        <p:spPr>
          <a:xfrm>
            <a:off x="3932280" y="4491000"/>
            <a:ext cx="455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OOR REMINDING WO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Rectangle 4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Rectangle 5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7" name="Group 6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918" name="Text Box 7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9" name="Group 8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920" name="Group 9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2921" name="Group 10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2922" name="Group 11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2923" name="AutoShape 12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AutoShape 13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AutoShape 14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26" name="Group 15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2927" name="AutoShape 16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8" name="AutoShape 17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29" name="Group 18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2930" name="AutoShape 19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1" name="AutoShape 20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2" name="AutoShape 21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933" name="Group 22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2934" name="Text Box 23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5" name="Text Box 24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6" name="Text Box 25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7" name="Text Box 26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38" name="Group 27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2939" name="Group 28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2940" name="Group 29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2941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942" name="Group 31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2943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2944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5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6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47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2948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9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0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951" name="Line 40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952" name="Line 41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953" name="Group 42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2954" name="Group 43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2955" name="Group 44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2956" name="Rectangle 45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957" name="Group 46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2958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2959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0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1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2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2963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4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5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966" name="Line 55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967" name="Line 56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68" name="Line 57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Text Box 58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Rectangle 59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Rectangle 60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Rectangle 61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73" name="Group 62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2974" name="Rectangle 63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5" name="Line 64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6" name="Line 65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977" name="Line 66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Line 67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9" name="Line 68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0" name="Line 69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1" name="Text Box 70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71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Text Box 72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73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Text Box 74"/>
          <p:cNvSpPr/>
          <p:nvPr/>
        </p:nvSpPr>
        <p:spPr>
          <a:xfrm>
            <a:off x="571680" y="3740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6" name="Group 7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2987" name="Text Box 78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ost kids will know the meaning of all the words in this phrase, thus it 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Line 79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Group 81"/>
          <p:cNvGrpSpPr/>
          <p:nvPr/>
        </p:nvGrpSpPr>
        <p:grpSpPr>
          <a:xfrm>
            <a:off x="582480" y="4194000"/>
            <a:ext cx="1839960" cy="675720"/>
            <a:chOff x="582480" y="4194000"/>
            <a:chExt cx="1839960" cy="675720"/>
          </a:xfrm>
        </p:grpSpPr>
        <p:sp>
          <p:nvSpPr>
            <p:cNvPr id="2990" name="Text Box 76"/>
            <p:cNvSpPr/>
            <p:nvPr/>
          </p:nvSpPr>
          <p:spPr>
            <a:xfrm>
              <a:off x="582480" y="4194000"/>
              <a:ext cx="18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hit her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Text Box 80"/>
            <p:cNvSpPr/>
            <p:nvPr/>
          </p:nvSpPr>
          <p:spPr>
            <a:xfrm>
              <a:off x="655560" y="441000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or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4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5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6" name="Group 6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997" name="Text Box 7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8" name="Group 8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999" name="Group 9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3000" name="Group 10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3001" name="Group 11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3002" name="AutoShape 12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AutoShape 13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AutoShape 14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05" name="Group 15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3006" name="AutoShape 16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7" name="AutoShape 17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08" name="Group 18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3009" name="AutoShape 19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0" name="AutoShape 20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1" name="AutoShape 21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012" name="Group 22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3013" name="Text Box 23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4" name="Text Box 24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5" name="Text Box 25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6" name="Text Box 26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17" name="Group 27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3018" name="Group 28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3019" name="Group 29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3020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021" name="Group 31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3022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3023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4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5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26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3027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8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9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30" name="Line 40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031" name="Line 41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32" name="Group 42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3033" name="Group 43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3034" name="Group 44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3035" name="Rectangle 45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036" name="Group 46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3037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3038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9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0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41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3042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3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4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45" name="Line 55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046" name="Line 56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047" name="Line 57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8" name="Text Box 58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9" name="Rectangle 59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0" name="Rectangle 60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1" name="Rectangle 61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52" name="Group 62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3053" name="Rectangle 63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4" name="Line 64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5" name="Line 65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056" name="Line 66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Line 67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58" name="Line 68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9" name="Line 69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0" name="Text Box 70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Text Box 71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Text Box 72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Text Box 73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4" name="Group 7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3065" name="Text Box 78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“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Hitherzi”  is a nonsense word that has no meaning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thus won’t wor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Line 79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7" name="Text Box 80"/>
          <p:cNvSpPr/>
          <p:nvPr/>
        </p:nvSpPr>
        <p:spPr>
          <a:xfrm>
            <a:off x="2846520" y="4005360"/>
            <a:ext cx="455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OOR REMINDING WO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Text Box 81"/>
          <p:cNvSpPr/>
          <p:nvPr/>
        </p:nvSpPr>
        <p:spPr>
          <a:xfrm>
            <a:off x="507960" y="374004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9" name="Group 82"/>
          <p:cNvGrpSpPr/>
          <p:nvPr/>
        </p:nvGrpSpPr>
        <p:grpSpPr>
          <a:xfrm>
            <a:off x="582480" y="4194000"/>
            <a:ext cx="1839960" cy="675720"/>
            <a:chOff x="582480" y="4194000"/>
            <a:chExt cx="1839960" cy="675720"/>
          </a:xfrm>
        </p:grpSpPr>
        <p:sp>
          <p:nvSpPr>
            <p:cNvPr id="3070" name="Text Box 83"/>
            <p:cNvSpPr/>
            <p:nvPr/>
          </p:nvSpPr>
          <p:spPr>
            <a:xfrm>
              <a:off x="582480" y="4194000"/>
              <a:ext cx="18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hitherz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Text Box 84"/>
            <p:cNvSpPr/>
            <p:nvPr/>
          </p:nvSpPr>
          <p:spPr>
            <a:xfrm>
              <a:off x="655560" y="441000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or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Text Box 8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Group 12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076" name="Text Box 13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7" name="Group 14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078" name="Group 15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079" name="Group 16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080" name="Group 17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081" name="AutoShape 18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2" name="AutoShape 19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3" name="AutoShape 20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4" name="Group 21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085" name="AutoShape 22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6" name="AutoShape 23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87" name="Group 24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088" name="AutoShape 25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9" name="AutoShape 26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90" name="AutoShape 27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091" name="Group 28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092" name="Text Box 29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3" name="Text Box 30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4" name="Text Box 31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5" name="Text Box 32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96" name="Group 33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097" name="Group 34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098" name="Group 35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099" name="Rectangle 36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00" name="Group 37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101" name="Group 38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102" name="Rectangle 39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3" name="Line 40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4" name="Line 41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05" name="Group 42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106" name="Rectangle 43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7" name="Line 44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8" name="Line 45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09" name="Line 46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10" name="Line 47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11" name="Group 48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112" name="Group 49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113" name="Group 50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114" name="Rectangle 51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15" name="Group 52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116" name="Group 53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117" name="Rectangle 54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18" name="Line 55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19" name="Line 56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20" name="Group 57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121" name="Rectangle 58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22" name="Line 59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23" name="Line 60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24" name="Line 61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25" name="Line 62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26" name="Line 63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7" name="Text Box 64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Rectangle 65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Rectangle 66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Rectangle 67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31" name="Group 68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132" name="Rectangle 69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3" name="Line 70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4" name="Line 71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35" name="Line 72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Line 73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7" name="Line 74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8" name="Line 75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9" name="Text Box 76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77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Group 82"/>
          <p:cNvGrpSpPr/>
          <p:nvPr/>
        </p:nvGrpSpPr>
        <p:grpSpPr>
          <a:xfrm>
            <a:off x="158760" y="2147760"/>
            <a:ext cx="2205000" cy="604800"/>
            <a:chOff x="158760" y="2147760"/>
            <a:chExt cx="2205000" cy="604800"/>
          </a:xfrm>
        </p:grpSpPr>
        <p:sp>
          <p:nvSpPr>
            <p:cNvPr id="3142" name="Text Box 78"/>
            <p:cNvSpPr/>
            <p:nvPr/>
          </p:nvSpPr>
          <p:spPr>
            <a:xfrm>
              <a:off x="158760" y="2147760"/>
              <a:ext cx="22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w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Line 80"/>
            <p:cNvSpPr/>
            <p:nvPr/>
          </p:nvSpPr>
          <p:spPr>
            <a:xfrm>
              <a:off x="731880" y="2448000"/>
              <a:ext cx="1015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6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120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122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123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124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125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129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1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132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5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136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9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0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141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142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143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4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145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146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9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150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1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2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3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4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156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157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158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9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160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161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2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3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64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165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6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7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68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9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0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176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9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7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9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0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1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2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4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IN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5"/>
          <p:cNvSpPr/>
          <p:nvPr/>
        </p:nvSpPr>
        <p:spPr>
          <a:xfrm>
            <a:off x="1930320" y="555480"/>
            <a:ext cx="7346880" cy="1222560"/>
          </a:xfrm>
          <a:prstGeom prst="cloudCallout">
            <a:avLst>
              <a:gd name="adj1" fmla="val -52032"/>
              <a:gd name="adj2" fmla="val 2061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3017880" y="7509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st the term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(make sure it’s spelled correct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7"/>
          <p:cNvSpPr/>
          <p:nvPr/>
        </p:nvSpPr>
        <p:spPr>
          <a:xfrm>
            <a:off x="3017880" y="11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st essential parts of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(make sure it’s in “kid”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7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148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9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150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151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152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153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4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5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6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157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8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59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160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1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2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63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164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5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6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7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168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169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170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171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72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173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174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5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6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77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178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9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80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81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82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83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184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185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186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87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188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189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0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92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193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4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5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96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97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98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9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0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1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2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03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204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5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6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207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9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0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1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e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 Arn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2" name="Group 78"/>
          <p:cNvGrpSpPr/>
          <p:nvPr/>
        </p:nvGrpSpPr>
        <p:grpSpPr>
          <a:xfrm>
            <a:off x="452520" y="3160800"/>
            <a:ext cx="5761080" cy="1439280"/>
            <a:chOff x="452520" y="3160800"/>
            <a:chExt cx="5761080" cy="1439280"/>
          </a:xfrm>
        </p:grpSpPr>
        <p:sp>
          <p:nvSpPr>
            <p:cNvPr id="3213" name="Text Box 70"/>
            <p:cNvSpPr/>
            <p:nvPr/>
          </p:nvSpPr>
          <p:spPr>
            <a:xfrm>
              <a:off x="452520" y="316080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ene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4" name="Group 74"/>
            <p:cNvGrpSpPr/>
            <p:nvPr/>
          </p:nvGrpSpPr>
          <p:grpSpPr>
            <a:xfrm>
              <a:off x="646200" y="3474720"/>
              <a:ext cx="5567400" cy="1125360"/>
              <a:chOff x="646200" y="3474720"/>
              <a:chExt cx="5567400" cy="1125360"/>
            </a:xfrm>
          </p:grpSpPr>
          <p:sp>
            <p:nvSpPr>
              <p:cNvPr id="3215" name="Text Box 75"/>
              <p:cNvSpPr/>
              <p:nvPr/>
            </p:nvSpPr>
            <p:spPr>
              <a:xfrm>
                <a:off x="646200" y="3957480"/>
                <a:ext cx="556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minding Word sounds like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begin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f new te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Line 76"/>
              <p:cNvSpPr/>
              <p:nvPr/>
            </p:nvSpPr>
            <p:spPr>
              <a:xfrm flipH="1" flipV="1">
                <a:off x="1015920" y="3474720"/>
                <a:ext cx="325440" cy="53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0" name="Group 77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221" name="Group 78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222" name="Text Box 79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3" name="Group 80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224" name="Group 81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225" name="Group 82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226" name="Group 83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227" name="AutoShape 84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8" name="AutoShape 85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9" name="AutoShape 86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30" name="Group 87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231" name="AutoShape 88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2" name="AutoShape 89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233" name="Group 90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234" name="AutoShape 91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35" name="AutoShape 92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36" name="AutoShape 93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37" name="Group 94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238" name="Text Box 95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9" name="Text Box 96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0" name="Text Box 97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1" name="Text Box 98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42" name="Group 99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243" name="Group 100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244" name="Group 101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245" name="Rectangle 102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246" name="Group 103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247" name="Group 104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248" name="Rectangle 105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49" name="Line 106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0" name="Line 107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251" name="Group 108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252" name="Rectangle 109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3" name="Line 110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4" name="Line 111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255" name="Line 112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56" name="Line 113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57" name="Group 114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258" name="Group 115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259" name="Group 116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260" name="Rectangle 117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261" name="Group 118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262" name="Group 119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263" name="Rectangle 120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4" name="Line 121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5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266" name="Group 123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267" name="Rectangle 124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8" name="Line 12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9" name="Line 126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270" name="Line 127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71" name="Line 128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272" name="Line 129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3" name="Text Box 130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4" name="Rectangle 131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5" name="Rectangle 132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6" name="Rectangle 133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77" name="Group 134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278" name="Rectangle 135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79" name="Line 136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80" name="Line 137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81" name="Line 138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2" name="Line 139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3" name="Line 140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4" name="Line 141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5" name="Text Box 142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c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9" name="Group 77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290" name="Group 78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291" name="Text Box 79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2" name="Group 80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293" name="Group 81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294" name="Group 82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295" name="Group 83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296" name="AutoShape 84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7" name="AutoShape 85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8" name="AutoShape 86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99" name="Group 87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300" name="AutoShape 88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1" name="AutoShape 89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02" name="Group 90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303" name="AutoShape 91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4" name="AutoShape 92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5" name="AutoShape 93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306" name="Group 94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307" name="Text Box 95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08" name="Text Box 96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09" name="Text Box 97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10" name="Text Box 98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11" name="Group 99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312" name="Group 100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313" name="Group 101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314" name="Rectangle 102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15" name="Group 103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316" name="Group 104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317" name="Rectangle 105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18" name="Line 106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19" name="Line 107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320" name="Group 108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321" name="Rectangle 109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22" name="Line 110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23" name="Line 111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324" name="Line 112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25" name="Line 113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6" name="Group 114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327" name="Group 115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328" name="Group 116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329" name="Rectangle 117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30" name="Group 118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331" name="Group 119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332" name="Rectangle 120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3" name="Line 121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4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335" name="Group 123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336" name="Rectangle 124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7" name="Line 12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8" name="Line 126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339" name="Line 127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40" name="Line 128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341" name="Line 129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2" name="Text Box 130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3" name="Rectangle 131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4" name="Rectangle 132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5" name="Rectangle 133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46" name="Group 134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347" name="Rectangle 135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8" name="Line 136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9" name="Line 137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0" name="Line 138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Line 139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52" name="Line 140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3" name="Line 141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4" name="Text Box 142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pec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5" name="Text Box 143"/>
          <p:cNvSpPr/>
          <p:nvPr/>
        </p:nvSpPr>
        <p:spPr>
          <a:xfrm>
            <a:off x="604800" y="4208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t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360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1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362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363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364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365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6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7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68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369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0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71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372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3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4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75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376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7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8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9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80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381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382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383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384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385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386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87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88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89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390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91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92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393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94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95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396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397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398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399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400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401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2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3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04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405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6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7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408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09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10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1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2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3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4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15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416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7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8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19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1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2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3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itu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5" name="Group 71"/>
          <p:cNvGrpSpPr/>
          <p:nvPr/>
        </p:nvGrpSpPr>
        <p:grpSpPr>
          <a:xfrm>
            <a:off x="158760" y="2147760"/>
            <a:ext cx="2205000" cy="604800"/>
            <a:chOff x="158760" y="2147760"/>
            <a:chExt cx="2205000" cy="604800"/>
          </a:xfrm>
        </p:grpSpPr>
        <p:sp>
          <p:nvSpPr>
            <p:cNvPr id="3426" name="Text Box 72"/>
            <p:cNvSpPr/>
            <p:nvPr/>
          </p:nvSpPr>
          <p:spPr>
            <a:xfrm>
              <a:off x="158760" y="2147760"/>
              <a:ext cx="22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w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Line 73"/>
            <p:cNvSpPr/>
            <p:nvPr/>
          </p:nvSpPr>
          <p:spPr>
            <a:xfrm>
              <a:off x="731880" y="2448000"/>
              <a:ext cx="1015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1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Text Box 74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1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432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3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434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435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436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437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8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9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40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441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2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43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444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5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6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47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448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49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0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1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52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453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454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455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456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457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458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59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60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61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462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63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64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465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66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67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468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469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470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471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472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473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4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5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76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477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8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9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480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81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82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3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4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5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6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87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488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9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0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91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2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3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4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5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75"/>
          <p:cNvGrpSpPr/>
          <p:nvPr/>
        </p:nvGrpSpPr>
        <p:grpSpPr>
          <a:xfrm>
            <a:off x="452520" y="3160800"/>
            <a:ext cx="5761080" cy="1164960"/>
            <a:chOff x="452520" y="3160800"/>
            <a:chExt cx="5761080" cy="1164960"/>
          </a:xfrm>
        </p:grpSpPr>
        <p:sp>
          <p:nvSpPr>
            <p:cNvPr id="3497" name="Text Box 70"/>
            <p:cNvSpPr/>
            <p:nvPr/>
          </p:nvSpPr>
          <p:spPr>
            <a:xfrm>
              <a:off x="452520" y="316080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t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8" name="Group 71"/>
            <p:cNvGrpSpPr/>
            <p:nvPr/>
          </p:nvGrpSpPr>
          <p:grpSpPr>
            <a:xfrm>
              <a:off x="646200" y="3474720"/>
              <a:ext cx="5567400" cy="851040"/>
              <a:chOff x="646200" y="3474720"/>
              <a:chExt cx="5567400" cy="851040"/>
            </a:xfrm>
          </p:grpSpPr>
          <p:sp>
            <p:nvSpPr>
              <p:cNvPr id="3499" name="Text Box 72"/>
              <p:cNvSpPr/>
              <p:nvPr/>
            </p:nvSpPr>
            <p:spPr>
              <a:xfrm>
                <a:off x="646200" y="3957480"/>
                <a:ext cx="55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minding Word sounds like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midd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f new te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Line 73"/>
              <p:cNvSpPr/>
              <p:nvPr/>
            </p:nvSpPr>
            <p:spPr>
              <a:xfrm flipH="1" flipV="1">
                <a:off x="1015920" y="3474720"/>
                <a:ext cx="325440" cy="53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3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504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505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6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507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508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509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510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1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2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13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514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15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16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517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8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9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20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521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2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3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4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25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526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527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528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529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530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531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2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3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534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535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6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7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538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39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40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541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542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543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544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545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546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47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48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549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550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51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52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553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54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555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6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7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8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9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60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561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2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3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564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5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6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7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8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ubl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9" name="Text Box 137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3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2" name="Group 74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573" name="Group 75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574" name="Text Box 76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5" name="Group 77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576" name="Group 78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577" name="Group 79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578" name="Group 80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579" name="AutoShape 81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0" name="AutoShape 82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1" name="AutoShape 83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82" name="Group 84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583" name="AutoShape 85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84" name="AutoShape 86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85" name="Group 87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586" name="AutoShape 88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7" name="AutoShape 89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8" name="AutoShape 90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89" name="Group 91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590" name="Text Box 92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1" name="Text Box 93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2" name="Text Box 94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3" name="Text Box 95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94" name="Group 96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595" name="Group 97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596" name="Group 98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597" name="Rectangle 99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598" name="Group 100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599" name="Group 101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600" name="Rectangle 102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1" name="Line 10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2" name="Line 104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603" name="Group 105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604" name="Rectangle 106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5" name="Line 107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6" name="Line 108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607" name="Line 109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08" name="Line 110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9" name="Group 111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610" name="Group 112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611" name="Group 113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612" name="Rectangle 114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613" name="Group 115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614" name="Group 116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615" name="Rectangle 117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16" name="Line 118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17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618" name="Group 120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619" name="Rectangle 121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20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21" name="Line 123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622" name="Line 124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23" name="Line 125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24" name="Line 126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5" name="Text Box 127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6" name="Rectangle 128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7" name="Rectangle 129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8" name="Rectangle 130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29" name="Group 131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630" name="Rectangle 132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1" name="Line 133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2" name="Line 134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633" name="Line 135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4" name="Line 136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35" name="Line 137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6" name="Line 138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7" name="Text Box 139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u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8" name="Group 142"/>
          <p:cNvGrpSpPr/>
          <p:nvPr/>
        </p:nvGrpSpPr>
        <p:grpSpPr>
          <a:xfrm>
            <a:off x="604800" y="4208400"/>
            <a:ext cx="5799240" cy="1336680"/>
            <a:chOff x="604800" y="4208400"/>
            <a:chExt cx="5799240" cy="1336680"/>
          </a:xfrm>
        </p:grpSpPr>
        <p:grpSp>
          <p:nvGrpSpPr>
            <p:cNvPr id="3639" name="Group 71"/>
            <p:cNvGrpSpPr/>
            <p:nvPr/>
          </p:nvGrpSpPr>
          <p:grpSpPr>
            <a:xfrm>
              <a:off x="836640" y="4694040"/>
              <a:ext cx="5567400" cy="851040"/>
              <a:chOff x="836640" y="4694040"/>
              <a:chExt cx="5567400" cy="851040"/>
            </a:xfrm>
          </p:grpSpPr>
          <p:sp>
            <p:nvSpPr>
              <p:cNvPr id="3640" name="Text Box 72"/>
              <p:cNvSpPr/>
              <p:nvPr/>
            </p:nvSpPr>
            <p:spPr>
              <a:xfrm>
                <a:off x="836640" y="5176800"/>
                <a:ext cx="55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minding Word sounds like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midd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f new te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Line 73"/>
              <p:cNvSpPr/>
              <p:nvPr/>
            </p:nvSpPr>
            <p:spPr>
              <a:xfrm flipH="1" flipV="1">
                <a:off x="1206360" y="4694040"/>
                <a:ext cx="325440" cy="53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Text Box 140"/>
            <p:cNvSpPr/>
            <p:nvPr/>
          </p:nvSpPr>
          <p:spPr>
            <a:xfrm>
              <a:off x="604800" y="420840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3" name="Text Box 141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7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648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9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650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651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652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653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4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5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656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657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8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59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660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61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62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63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664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5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6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7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68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669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670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671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672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673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674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5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6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77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678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9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0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681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82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83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684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685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686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687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688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689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0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92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693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4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5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696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97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698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9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0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1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2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03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704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5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6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07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9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0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1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mo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3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5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716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718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719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720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721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2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3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24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725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6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27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728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9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0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731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732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3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4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5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736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737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738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739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40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741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742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3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4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745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746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7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8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749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50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51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752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753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754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55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756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757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8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9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760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761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62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63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764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5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766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7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8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9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0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71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772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3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4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75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7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8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9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mo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Text Box 70"/>
          <p:cNvSpPr/>
          <p:nvPr/>
        </p:nvSpPr>
        <p:spPr>
          <a:xfrm>
            <a:off x="452520" y="303372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Text Box 74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4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785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786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7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788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789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790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791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2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3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94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795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6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797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798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9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0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01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802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03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04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05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06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807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808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809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10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11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12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3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4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15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816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7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8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819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20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21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822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823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824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25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26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27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28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29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30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831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32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33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834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35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36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7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8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9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0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41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842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3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4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845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6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47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8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9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e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0" name="Text Box 137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195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197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198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199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200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3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204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6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207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0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211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2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3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5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216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217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218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9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220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221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4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225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8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9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231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232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233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34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235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236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9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240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43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4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5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251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4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7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0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1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3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6"/>
          <p:cNvSpPr/>
          <p:nvPr/>
        </p:nvSpPr>
        <p:spPr>
          <a:xfrm>
            <a:off x="1081080" y="1316160"/>
            <a:ext cx="7696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 word whose meaning is familiar 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Sounds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ke the new term in som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8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9"/>
          <p:cNvSpPr/>
          <p:nvPr/>
        </p:nvSpPr>
        <p:spPr>
          <a:xfrm>
            <a:off x="2922480" y="579600"/>
            <a:ext cx="514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7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N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3" name="Group 74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854" name="Group 75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855" name="Text Box 76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6" name="Group 77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857" name="Group 78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858" name="Group 79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859" name="Group 80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860" name="AutoShape 81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1" name="AutoShape 82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2" name="AutoShape 83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63" name="Group 84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864" name="AutoShape 85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65" name="AutoShape 86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66" name="Group 87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867" name="AutoShape 88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8" name="AutoShape 89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9" name="AutoShape 90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0" name="Group 91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871" name="Text Box 92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72" name="Text Box 93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73" name="Text Box 94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74" name="Text Box 95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75" name="Group 96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876" name="Group 97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877" name="Group 98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878" name="Rectangle 99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79" name="Group 100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80" name="Group 101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81" name="Rectangle 102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2" name="Line 10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3" name="Line 104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84" name="Group 105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885" name="Rectangle 106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6" name="Line 107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7" name="Line 108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888" name="Line 109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89" name="Line 110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90" name="Group 111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891" name="Group 112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892" name="Group 113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893" name="Rectangle 114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94" name="Group 115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95" name="Group 116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96" name="Rectangle 117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97" name="Line 118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98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99" name="Group 120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900" name="Rectangle 121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01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02" name="Line 123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903" name="Line 124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904" name="Line 125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905" name="Line 126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6" name="Text Box 127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7" name="Rectangle 128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8" name="Rectangle 129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9" name="Rectangle 130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10" name="Group 131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911" name="Rectangle 132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2" name="Line 133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3" name="Line 134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14" name="Line 135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5" name="Line 136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16" name="Line 137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7" name="Line 138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18" name="Text Box 139"/>
            <p:cNvSpPr/>
            <p:nvPr/>
          </p:nvSpPr>
          <p:spPr>
            <a:xfrm>
              <a:off x="557280" y="3789360"/>
              <a:ext cx="2205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e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9" name="Text Box 140"/>
          <p:cNvSpPr/>
          <p:nvPr/>
        </p:nvSpPr>
        <p:spPr>
          <a:xfrm>
            <a:off x="604800" y="4208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Text Box 141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4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925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6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927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928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929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930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1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2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33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934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5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36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937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8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9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940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941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2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3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4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945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946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947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948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49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950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951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2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3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954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955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6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7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958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59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60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961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962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963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64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965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966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67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68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969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970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71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72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973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74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75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6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7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8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9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80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981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2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3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984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6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7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8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pr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0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3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2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993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4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995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996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997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998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9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0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01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4002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3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004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4005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6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7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008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4009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0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1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2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13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4014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4015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4016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017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4018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4019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0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1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022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4023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4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5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026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027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28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4029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4030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4031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032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4033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4034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5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6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037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4038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9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40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041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042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43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4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5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6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7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48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4049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0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1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52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4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5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6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propr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Text Box 74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2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063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064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5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066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067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068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069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0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1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072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073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74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075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076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7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8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079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080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1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2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3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084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085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086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087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088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089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090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1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2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93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094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5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6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097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98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99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100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101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102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103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104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105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06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07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08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109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10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11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112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13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14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5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6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7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8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19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120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1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2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123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4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5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6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27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ce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4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3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1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132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133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4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135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136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137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138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9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0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41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142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3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144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145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6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7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148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149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0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1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2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53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154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155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156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157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158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159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0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1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62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163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4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5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166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67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68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169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170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171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172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173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174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75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76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77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178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79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80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181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82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83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4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5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6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7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88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189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0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1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192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3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94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5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6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rece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Text Box 137"/>
          <p:cNvSpPr/>
          <p:nvPr/>
        </p:nvSpPr>
        <p:spPr>
          <a:xfrm>
            <a:off x="452520" y="417996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Text Box 4"/>
          <p:cNvSpPr/>
          <p:nvPr/>
        </p:nvSpPr>
        <p:spPr>
          <a:xfrm>
            <a:off x="0" y="161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1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4202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3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4204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4205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4206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4207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8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9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10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4211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2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13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4214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5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6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17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4218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19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20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21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222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4223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4224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4225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26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4227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4228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9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30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31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4232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33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34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235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236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37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4238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4239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4240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41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4242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4243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4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5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46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4247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8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9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250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251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52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3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4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5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6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57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4258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9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0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261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63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4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5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i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6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9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4270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1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4272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4273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4274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4275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6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7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78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4279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0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81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4282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3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4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85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4286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87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88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89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290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4291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4292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4293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94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4295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4296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7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8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99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4300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1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2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303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04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05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4306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4307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4308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309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4310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4311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2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3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4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4315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6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7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318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19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20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1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2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3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4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25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4326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7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8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329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0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1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2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3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ari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ar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Text Box 72"/>
          <p:cNvSpPr/>
          <p:nvPr/>
        </p:nvSpPr>
        <p:spPr>
          <a:xfrm>
            <a:off x="0" y="1612800"/>
            <a:ext cx="85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8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339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340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1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342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343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344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345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6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7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48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349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0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351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352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53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54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355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356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7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8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9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60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361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362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363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364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365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366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67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68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369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370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71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72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373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74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75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376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377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378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379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380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381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2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3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384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385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6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7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388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89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390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1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2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3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4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95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396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7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8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99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0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01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2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3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4" name="Text Box 137"/>
          <p:cNvSpPr/>
          <p:nvPr/>
        </p:nvSpPr>
        <p:spPr>
          <a:xfrm>
            <a:off x="0" y="161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4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7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408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409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0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411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412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413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414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5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6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17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418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9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20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421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22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23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424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425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26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27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28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29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430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431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432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433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434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435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36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37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438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439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40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41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442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443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444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445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446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447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448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449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450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1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2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453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454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5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6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457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458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459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0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1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2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3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64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465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6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7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468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9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70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1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2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3" name="Text Box 137"/>
          <p:cNvSpPr/>
          <p:nvPr/>
        </p:nvSpPr>
        <p:spPr>
          <a:xfrm>
            <a:off x="604800" y="4208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eno’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Text Box 138"/>
          <p:cNvSpPr/>
          <p:nvPr/>
        </p:nvSpPr>
        <p:spPr>
          <a:xfrm>
            <a:off x="0" y="161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NCing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8668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the Reminding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hort and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7" name="Picture 4" descr=""/>
          <p:cNvPicPr/>
          <p:nvPr/>
        </p:nvPicPr>
        <p:blipFill>
          <a:blip r:embed="rId1"/>
          <a:stretch/>
        </p:blipFill>
        <p:spPr>
          <a:xfrm>
            <a:off x="190440" y="3429000"/>
            <a:ext cx="8763120" cy="2651040"/>
          </a:xfrm>
          <a:prstGeom prst="rect">
            <a:avLst/>
          </a:prstGeom>
          <a:ln w="0">
            <a:noFill/>
          </a:ln>
        </p:spPr>
      </p:pic>
      <p:sp>
        <p:nvSpPr>
          <p:cNvPr id="4478" name="Rectangle 8"/>
          <p:cNvSpPr/>
          <p:nvPr/>
        </p:nvSpPr>
        <p:spPr>
          <a:xfrm>
            <a:off x="0" y="3844800"/>
            <a:ext cx="9144000" cy="30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9" name="Group 9"/>
          <p:cNvGrpSpPr/>
          <p:nvPr/>
        </p:nvGrpSpPr>
        <p:grpSpPr>
          <a:xfrm>
            <a:off x="266760" y="2720880"/>
            <a:ext cx="8753040" cy="1812960"/>
            <a:chOff x="266760" y="2720880"/>
            <a:chExt cx="8753040" cy="1812960"/>
          </a:xfrm>
        </p:grpSpPr>
        <p:sp>
          <p:nvSpPr>
            <p:cNvPr id="4480" name="Text Box 10"/>
            <p:cNvSpPr/>
            <p:nvPr/>
          </p:nvSpPr>
          <p:spPr>
            <a:xfrm>
              <a:off x="622440" y="41421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Group 11"/>
            <p:cNvGrpSpPr/>
            <p:nvPr/>
          </p:nvGrpSpPr>
          <p:grpSpPr>
            <a:xfrm>
              <a:off x="266760" y="2720880"/>
              <a:ext cx="8753040" cy="1346040"/>
              <a:chOff x="266760" y="2720880"/>
              <a:chExt cx="8753040" cy="1346040"/>
            </a:xfrm>
          </p:grpSpPr>
          <p:grpSp>
            <p:nvGrpSpPr>
              <p:cNvPr id="4482" name="Group 12"/>
              <p:cNvGrpSpPr/>
              <p:nvPr/>
            </p:nvGrpSpPr>
            <p:grpSpPr>
              <a:xfrm>
                <a:off x="266760" y="2720880"/>
                <a:ext cx="8753040" cy="1346040"/>
                <a:chOff x="266760" y="2720880"/>
                <a:chExt cx="8753040" cy="1346040"/>
              </a:xfrm>
            </p:grpSpPr>
            <p:grpSp>
              <p:nvGrpSpPr>
                <p:cNvPr id="4483" name="Group 13"/>
                <p:cNvGrpSpPr/>
                <p:nvPr/>
              </p:nvGrpSpPr>
              <p:grpSpPr>
                <a:xfrm>
                  <a:off x="266760" y="2720880"/>
                  <a:ext cx="8753040" cy="1346040"/>
                  <a:chOff x="266760" y="2720880"/>
                  <a:chExt cx="8753040" cy="1346040"/>
                </a:xfrm>
              </p:grpSpPr>
              <p:grpSp>
                <p:nvGrpSpPr>
                  <p:cNvPr id="4484" name="Group 14"/>
                  <p:cNvGrpSpPr/>
                  <p:nvPr/>
                </p:nvGrpSpPr>
                <p:grpSpPr>
                  <a:xfrm>
                    <a:off x="266760" y="2720880"/>
                    <a:ext cx="8753040" cy="1346040"/>
                    <a:chOff x="266760" y="2720880"/>
                    <a:chExt cx="8753040" cy="1346040"/>
                  </a:xfrm>
                </p:grpSpPr>
                <p:sp>
                  <p:nvSpPr>
                    <p:cNvPr id="4485" name="AutoShape 15"/>
                    <p:cNvSpPr/>
                    <p:nvPr/>
                  </p:nvSpPr>
                  <p:spPr>
                    <a:xfrm>
                      <a:off x="266760" y="27720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6" name="AutoShape 16"/>
                    <p:cNvSpPr/>
                    <p:nvPr/>
                  </p:nvSpPr>
                  <p:spPr>
                    <a:xfrm>
                      <a:off x="389160" y="29012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7" name="AutoShape 17"/>
                    <p:cNvSpPr/>
                    <p:nvPr/>
                  </p:nvSpPr>
                  <p:spPr>
                    <a:xfrm>
                      <a:off x="2367720" y="27720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88" name="Group 18"/>
                    <p:cNvGrpSpPr/>
                    <p:nvPr/>
                  </p:nvGrpSpPr>
                  <p:grpSpPr>
                    <a:xfrm>
                      <a:off x="726480" y="2720880"/>
                      <a:ext cx="8293320" cy="1346040"/>
                      <a:chOff x="726480" y="2720880"/>
                      <a:chExt cx="8293320" cy="1346040"/>
                    </a:xfrm>
                  </p:grpSpPr>
                  <p:sp>
                    <p:nvSpPr>
                      <p:cNvPr id="4489" name="AutoShape 19"/>
                      <p:cNvSpPr/>
                      <p:nvPr/>
                    </p:nvSpPr>
                    <p:spPr>
                      <a:xfrm>
                        <a:off x="6568920" y="27720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0" name="AutoShape 20"/>
                      <p:cNvSpPr/>
                      <p:nvPr/>
                    </p:nvSpPr>
                    <p:spPr>
                      <a:xfrm>
                        <a:off x="6691680" y="29012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91" name="Group 21"/>
                      <p:cNvGrpSpPr/>
                      <p:nvPr/>
                    </p:nvGrpSpPr>
                    <p:grpSpPr>
                      <a:xfrm>
                        <a:off x="726480" y="2720880"/>
                        <a:ext cx="7834320" cy="1339920"/>
                        <a:chOff x="726480" y="2720880"/>
                        <a:chExt cx="7834320" cy="1339920"/>
                      </a:xfrm>
                    </p:grpSpPr>
                    <p:sp>
                      <p:nvSpPr>
                        <p:cNvPr id="4492" name="AutoShape 22"/>
                        <p:cNvSpPr/>
                        <p:nvPr/>
                      </p:nvSpPr>
                      <p:spPr>
                        <a:xfrm>
                          <a:off x="248940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93" name="AutoShape 23"/>
                        <p:cNvSpPr/>
                        <p:nvPr/>
                      </p:nvSpPr>
                      <p:spPr>
                        <a:xfrm>
                          <a:off x="4468680" y="27658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94" name="AutoShape 24"/>
                        <p:cNvSpPr/>
                        <p:nvPr/>
                      </p:nvSpPr>
                      <p:spPr>
                        <a:xfrm>
                          <a:off x="459072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95" name="Group 25"/>
                        <p:cNvGrpSpPr/>
                        <p:nvPr/>
                      </p:nvGrpSpPr>
                      <p:grpSpPr>
                        <a:xfrm>
                          <a:off x="726480" y="2720880"/>
                          <a:ext cx="7834320" cy="269280"/>
                          <a:chOff x="726480" y="2720880"/>
                          <a:chExt cx="7834320" cy="269280"/>
                        </a:xfrm>
                      </p:grpSpPr>
                      <p:sp>
                        <p:nvSpPr>
                          <p:cNvPr id="4496" name="Text Box 26"/>
                          <p:cNvSpPr/>
                          <p:nvPr/>
                        </p:nvSpPr>
                        <p:spPr>
                          <a:xfrm>
                            <a:off x="4911840" y="27208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7" name="Text Box 27"/>
                          <p:cNvSpPr/>
                          <p:nvPr/>
                        </p:nvSpPr>
                        <p:spPr>
                          <a:xfrm>
                            <a:off x="7029360" y="27208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8" name="Text Box 28"/>
                          <p:cNvSpPr/>
                          <p:nvPr/>
                        </p:nvSpPr>
                        <p:spPr>
                          <a:xfrm>
                            <a:off x="282744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9" name="Text Box 29"/>
                          <p:cNvSpPr/>
                          <p:nvPr/>
                        </p:nvSpPr>
                        <p:spPr>
                          <a:xfrm>
                            <a:off x="72648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00" name="Group 30"/>
                      <p:cNvGrpSpPr/>
                      <p:nvPr/>
                    </p:nvGrpSpPr>
                    <p:grpSpPr>
                      <a:xfrm>
                        <a:off x="4380120" y="2848680"/>
                        <a:ext cx="437760" cy="896400"/>
                        <a:chOff x="4380120" y="2848680"/>
                        <a:chExt cx="437760" cy="896400"/>
                      </a:xfrm>
                    </p:grpSpPr>
                    <p:grpSp>
                      <p:nvGrpSpPr>
                        <p:cNvPr id="4501" name="Group 31"/>
                        <p:cNvGrpSpPr/>
                        <p:nvPr/>
                      </p:nvGrpSpPr>
                      <p:grpSpPr>
                        <a:xfrm>
                          <a:off x="4494960" y="2848680"/>
                          <a:ext cx="322920" cy="896400"/>
                          <a:chOff x="4494960" y="2848680"/>
                          <a:chExt cx="322920" cy="896400"/>
                        </a:xfrm>
                      </p:grpSpPr>
                      <p:grpSp>
                        <p:nvGrpSpPr>
                          <p:cNvPr id="4502" name="Group 32"/>
                          <p:cNvGrpSpPr/>
                          <p:nvPr/>
                        </p:nvGrpSpPr>
                        <p:grpSpPr>
                          <a:xfrm>
                            <a:off x="4494960" y="2903400"/>
                            <a:ext cx="322920" cy="841680"/>
                            <a:chOff x="4494960" y="2903400"/>
                            <a:chExt cx="322920" cy="841680"/>
                          </a:xfrm>
                        </p:grpSpPr>
                        <p:sp>
                          <p:nvSpPr>
                            <p:cNvPr id="4503" name="Rectangle 33"/>
                            <p:cNvSpPr/>
                            <p:nvPr/>
                          </p:nvSpPr>
                          <p:spPr>
                            <a:xfrm rot="18886800">
                              <a:off x="4591800" y="28954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04" name="Group 34"/>
                            <p:cNvGrpSpPr/>
                            <p:nvPr/>
                          </p:nvGrpSpPr>
                          <p:grpSpPr>
                            <a:xfrm>
                              <a:off x="4610160" y="3134520"/>
                              <a:ext cx="207720" cy="610560"/>
                              <a:chOff x="4610160" y="3134520"/>
                              <a:chExt cx="207720" cy="610560"/>
                            </a:xfrm>
                          </p:grpSpPr>
                          <p:grpSp>
                            <p:nvGrpSpPr>
                              <p:cNvPr id="4505" name="Group 35"/>
                              <p:cNvGrpSpPr/>
                              <p:nvPr/>
                            </p:nvGrpSpPr>
                            <p:grpSpPr>
                              <a:xfrm>
                                <a:off x="4610160" y="3518280"/>
                                <a:ext cx="207720" cy="226800"/>
                                <a:chOff x="4610160" y="3518280"/>
                                <a:chExt cx="207720" cy="226800"/>
                              </a:xfrm>
                            </p:grpSpPr>
                            <p:sp>
                              <p:nvSpPr>
                                <p:cNvPr id="4506" name="Rectangle 36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35359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7" name="Line 37"/>
                                <p:cNvSpPr/>
                                <p:nvPr/>
                              </p:nvSpPr>
                              <p:spPr>
                                <a:xfrm flipH="1">
                                  <a:off x="4703400" y="35920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8" name="Line 38"/>
                                <p:cNvSpPr/>
                                <p:nvPr/>
                              </p:nvSpPr>
                              <p:spPr>
                                <a:xfrm flipH="1">
                                  <a:off x="4614120" y="35258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09" name="Group 39"/>
                              <p:cNvGrpSpPr/>
                              <p:nvPr/>
                            </p:nvGrpSpPr>
                            <p:grpSpPr>
                              <a:xfrm>
                                <a:off x="4691520" y="3134520"/>
                                <a:ext cx="120960" cy="453240"/>
                                <a:chOff x="4691520" y="3134520"/>
                                <a:chExt cx="120960" cy="453240"/>
                              </a:xfrm>
                            </p:grpSpPr>
                            <p:sp>
                              <p:nvSpPr>
                                <p:cNvPr id="4510" name="Rectangle 40"/>
                                <p:cNvSpPr/>
                                <p:nvPr/>
                              </p:nvSpPr>
                              <p:spPr>
                                <a:xfrm>
                                  <a:off x="4691520" y="31345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1" name="Line 41"/>
                                <p:cNvSpPr/>
                                <p:nvPr/>
                              </p:nvSpPr>
                              <p:spPr>
                                <a:xfrm>
                                  <a:off x="4812480" y="31395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2" name="Line 42"/>
                                <p:cNvSpPr/>
                                <p:nvPr/>
                              </p:nvSpPr>
                              <p:spPr>
                                <a:xfrm>
                                  <a:off x="4691520" y="31557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513" name="Line 43"/>
                          <p:cNvSpPr/>
                          <p:nvPr/>
                        </p:nvSpPr>
                        <p:spPr>
                          <a:xfrm flipH="1" flipV="1">
                            <a:off x="4522320" y="2848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14" name="Line 44"/>
                        <p:cNvSpPr/>
                        <p:nvPr/>
                      </p:nvSpPr>
                      <p:spPr>
                        <a:xfrm flipH="1" flipV="1">
                          <a:off x="4380120" y="2889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5" name="Group 45"/>
                      <p:cNvGrpSpPr/>
                      <p:nvPr/>
                    </p:nvGrpSpPr>
                    <p:grpSpPr>
                      <a:xfrm>
                        <a:off x="6547320" y="3073680"/>
                        <a:ext cx="437760" cy="896400"/>
                        <a:chOff x="6547320" y="3073680"/>
                        <a:chExt cx="437760" cy="896400"/>
                      </a:xfrm>
                    </p:grpSpPr>
                    <p:grpSp>
                      <p:nvGrpSpPr>
                        <p:cNvPr id="4516" name="Group 46"/>
                        <p:cNvGrpSpPr/>
                        <p:nvPr/>
                      </p:nvGrpSpPr>
                      <p:grpSpPr>
                        <a:xfrm>
                          <a:off x="6547320" y="3073680"/>
                          <a:ext cx="322920" cy="896400"/>
                          <a:chOff x="6547320" y="3073680"/>
                          <a:chExt cx="322920" cy="896400"/>
                        </a:xfrm>
                      </p:grpSpPr>
                      <p:grpSp>
                        <p:nvGrpSpPr>
                          <p:cNvPr id="4517" name="Group 47"/>
                          <p:cNvGrpSpPr/>
                          <p:nvPr/>
                        </p:nvGrpSpPr>
                        <p:grpSpPr>
                          <a:xfrm>
                            <a:off x="6547320" y="3073680"/>
                            <a:ext cx="322920" cy="841680"/>
                            <a:chOff x="6547320" y="3073680"/>
                            <a:chExt cx="322920" cy="841680"/>
                          </a:xfrm>
                        </p:grpSpPr>
                        <p:sp>
                          <p:nvSpPr>
                            <p:cNvPr id="4518" name="Rectangle 48"/>
                            <p:cNvSpPr/>
                            <p:nvPr/>
                          </p:nvSpPr>
                          <p:spPr>
                            <a:xfrm rot="8086800">
                              <a:off x="6660720" y="3602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19" name="Group 49"/>
                            <p:cNvGrpSpPr/>
                            <p:nvPr/>
                          </p:nvGrpSpPr>
                          <p:grpSpPr>
                            <a:xfrm>
                              <a:off x="6547320" y="3073680"/>
                              <a:ext cx="207720" cy="610560"/>
                              <a:chOff x="6547320" y="3073680"/>
                              <a:chExt cx="207720" cy="610560"/>
                            </a:xfrm>
                          </p:grpSpPr>
                          <p:grpSp>
                            <p:nvGrpSpPr>
                              <p:cNvPr id="4520" name="Group 50"/>
                              <p:cNvGrpSpPr/>
                              <p:nvPr/>
                            </p:nvGrpSpPr>
                            <p:grpSpPr>
                              <a:xfrm>
                                <a:off x="6547320" y="3073680"/>
                                <a:ext cx="207720" cy="226800"/>
                                <a:chOff x="6547320" y="3073680"/>
                                <a:chExt cx="207720" cy="226800"/>
                              </a:xfrm>
                            </p:grpSpPr>
                            <p:sp>
                              <p:nvSpPr>
                                <p:cNvPr id="4521" name="Rectangle 51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096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2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0736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3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649920" y="3156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24" name="Group 54"/>
                              <p:cNvGrpSpPr/>
                              <p:nvPr/>
                            </p:nvGrpSpPr>
                            <p:grpSpPr>
                              <a:xfrm>
                                <a:off x="6552720" y="3231000"/>
                                <a:ext cx="120960" cy="453240"/>
                                <a:chOff x="6552720" y="3231000"/>
                                <a:chExt cx="120960" cy="453240"/>
                              </a:xfrm>
                            </p:grpSpPr>
                            <p:sp>
                              <p:nvSpPr>
                                <p:cNvPr id="4525" name="Rectangle 55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32468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6" name="Line 56"/>
                                <p:cNvSpPr/>
                                <p:nvPr/>
                              </p:nvSpPr>
                              <p:spPr>
                                <a:xfrm flipV="1">
                                  <a:off x="6552720" y="32310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7" name="Line 57"/>
                                <p:cNvSpPr/>
                                <p:nvPr/>
                              </p:nvSpPr>
                              <p:spPr>
                                <a:xfrm>
                                  <a:off x="6673680" y="32626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528" name="Line 58"/>
                          <p:cNvSpPr/>
                          <p:nvPr/>
                        </p:nvSpPr>
                        <p:spPr>
                          <a:xfrm>
                            <a:off x="6552000" y="36716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29" name="Line 59"/>
                        <p:cNvSpPr/>
                        <p:nvPr/>
                      </p:nvSpPr>
                      <p:spPr>
                        <a:xfrm>
                          <a:off x="6694200" y="3656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530" name="Line 60"/>
                    <p:cNvSpPr/>
                    <p:nvPr/>
                  </p:nvSpPr>
                  <p:spPr>
                    <a:xfrm>
                      <a:off x="446760" y="34041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1" name="Text Box 61"/>
                    <p:cNvSpPr/>
                    <p:nvPr/>
                  </p:nvSpPr>
                  <p:spPr>
                    <a:xfrm>
                      <a:off x="988920" y="33210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2" name="Rectangle 62"/>
                    <p:cNvSpPr/>
                    <p:nvPr/>
                  </p:nvSpPr>
                  <p:spPr>
                    <a:xfrm rot="18886800">
                      <a:off x="2518200" y="36540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3" name="Rectangle 63"/>
                    <p:cNvSpPr/>
                    <p:nvPr/>
                  </p:nvSpPr>
                  <p:spPr>
                    <a:xfrm rot="18886800">
                      <a:off x="2491200" y="29156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4" name="Rectangle 64"/>
                    <p:cNvSpPr/>
                    <p:nvPr/>
                  </p:nvSpPr>
                  <p:spPr>
                    <a:xfrm rot="2740200">
                      <a:off x="2566440" y="36147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35" name="Group 65"/>
                    <p:cNvGrpSpPr/>
                    <p:nvPr/>
                  </p:nvGrpSpPr>
                  <p:grpSpPr>
                    <a:xfrm>
                      <a:off x="2563920" y="3141000"/>
                      <a:ext cx="123480" cy="527040"/>
                      <a:chOff x="2563920" y="3141000"/>
                      <a:chExt cx="123480" cy="527040"/>
                    </a:xfrm>
                  </p:grpSpPr>
                  <p:sp>
                    <p:nvSpPr>
                      <p:cNvPr id="4536" name="Rectangle 66"/>
                      <p:cNvSpPr/>
                      <p:nvPr/>
                    </p:nvSpPr>
                    <p:spPr>
                      <a:xfrm>
                        <a:off x="2563920" y="31410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7" name="Line 67"/>
                      <p:cNvSpPr/>
                      <p:nvPr/>
                    </p:nvSpPr>
                    <p:spPr>
                      <a:xfrm>
                        <a:off x="2687400" y="31471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8" name="Line 68"/>
                      <p:cNvSpPr/>
                      <p:nvPr/>
                    </p:nvSpPr>
                    <p:spPr>
                      <a:xfrm>
                        <a:off x="2563920" y="31658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539" name="Line 69"/>
                  <p:cNvSpPr/>
                  <p:nvPr/>
                </p:nvSpPr>
                <p:spPr>
                  <a:xfrm>
                    <a:off x="2378160" y="28044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0" name="Line 70"/>
                  <p:cNvSpPr/>
                  <p:nvPr/>
                </p:nvSpPr>
                <p:spPr>
                  <a:xfrm>
                    <a:off x="2316240" y="29124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1" name="Line 71"/>
                <p:cNvSpPr/>
                <p:nvPr/>
              </p:nvSpPr>
              <p:spPr>
                <a:xfrm flipH="1">
                  <a:off x="2607120" y="36558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2" name="Line 72"/>
              <p:cNvSpPr/>
              <p:nvPr/>
            </p:nvSpPr>
            <p:spPr>
              <a:xfrm flipH="1">
                <a:off x="2545200" y="36507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3" name="Text Box 73"/>
          <p:cNvSpPr/>
          <p:nvPr/>
        </p:nvSpPr>
        <p:spPr>
          <a:xfrm>
            <a:off x="741240" y="2922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ece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Text Box 74"/>
          <p:cNvSpPr/>
          <p:nvPr/>
        </p:nvSpPr>
        <p:spPr>
          <a:xfrm>
            <a:off x="2690640" y="298116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t a new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Text Box 75"/>
          <p:cNvSpPr/>
          <p:nvPr/>
        </p:nvSpPr>
        <p:spPr>
          <a:xfrm>
            <a:off x="571680" y="342900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Text Box 76"/>
          <p:cNvSpPr/>
          <p:nvPr/>
        </p:nvSpPr>
        <p:spPr>
          <a:xfrm>
            <a:off x="4863960" y="2911320"/>
            <a:ext cx="1757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set a precedent by being completely hon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7" name="Group 80"/>
          <p:cNvGrpSpPr/>
          <p:nvPr/>
        </p:nvGrpSpPr>
        <p:grpSpPr>
          <a:xfrm>
            <a:off x="2986200" y="3768480"/>
            <a:ext cx="6157800" cy="2693160"/>
            <a:chOff x="2986200" y="3768480"/>
            <a:chExt cx="6157800" cy="2693160"/>
          </a:xfrm>
        </p:grpSpPr>
        <p:sp>
          <p:nvSpPr>
            <p:cNvPr id="4548" name="Text Box 78"/>
            <p:cNvSpPr/>
            <p:nvPr/>
          </p:nvSpPr>
          <p:spPr>
            <a:xfrm>
              <a:off x="2986200" y="5079960"/>
              <a:ext cx="61578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Effective LINCing S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Makes students think of something novel that hasn’t happened bef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Line 79"/>
            <p:cNvSpPr/>
            <p:nvPr/>
          </p:nvSpPr>
          <p:spPr>
            <a:xfrm flipH="1" flipV="1">
              <a:off x="5638320" y="3768480"/>
              <a:ext cx="133560" cy="1382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3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270" name="Text Box 4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Group 5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272" name="Group 6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273" name="Group 7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274" name="Group 8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275" name="AutoShape 9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AutoShape 10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AutoShape 11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8" name="Group 12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279" name="AutoShape 13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AutoShape 14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1" name="Group 15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282" name="AutoShape 16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AutoShape 17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AutoShape 18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" name="Group 19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286" name="Text Box 20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7" name="Text Box 21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8" name="Text Box 22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9" name="Text Box 23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0" name="Group 24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291" name="Group 25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292" name="Group 26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293" name="Rectangle 27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94" name="Group 28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295" name="Group 29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296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7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9" name="Group 33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300" name="Rectangle 34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Line 35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Line 36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3" name="Line 37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04" name="Line 38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" name="Group 39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306" name="Group 40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307" name="Group 41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308" name="Rectangle 42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09" name="Group 43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310" name="Group 44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311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2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3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4" name="Group 48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315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6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" name="Line 51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8" name="Line 52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9" name="Line 53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0" name="Line 54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Text Box 55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Rectangle 56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Rectangle 57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Rectangle 58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5" name="Group 59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326" name="Rectangle 60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Line 61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Line 62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29" name="Line 63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Line 64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Line 65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Line 66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Rectangle 72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3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4"/>
          <p:cNvSpPr/>
          <p:nvPr/>
        </p:nvSpPr>
        <p:spPr>
          <a:xfrm>
            <a:off x="4762440" y="355608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5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77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8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9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83"/>
          <p:cNvSpPr/>
          <p:nvPr/>
        </p:nvSpPr>
        <p:spPr>
          <a:xfrm>
            <a:off x="955800" y="1644480"/>
            <a:ext cx="79200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hort, simple story that includes the reminding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elps you remember the new term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85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6"/>
          <p:cNvSpPr/>
          <p:nvPr/>
        </p:nvSpPr>
        <p:spPr>
          <a:xfrm>
            <a:off x="2913120" y="579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87"/>
          <p:cNvSpPr/>
          <p:nvPr/>
        </p:nvSpPr>
        <p:spPr>
          <a:xfrm>
            <a:off x="2913120" y="99864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e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4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471" presetSubtype="245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NCing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8668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the Reminding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hort and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2" name="Picture 4" descr=""/>
          <p:cNvPicPr/>
          <p:nvPr/>
        </p:nvPicPr>
        <p:blipFill>
          <a:blip r:embed="rId1"/>
          <a:stretch/>
        </p:blipFill>
        <p:spPr>
          <a:xfrm>
            <a:off x="190440" y="3429000"/>
            <a:ext cx="8763120" cy="2651040"/>
          </a:xfrm>
          <a:prstGeom prst="rect">
            <a:avLst/>
          </a:prstGeom>
          <a:ln w="0">
            <a:noFill/>
          </a:ln>
        </p:spPr>
      </p:pic>
      <p:sp>
        <p:nvSpPr>
          <p:cNvPr id="4553" name="Rectangle 5"/>
          <p:cNvSpPr/>
          <p:nvPr/>
        </p:nvSpPr>
        <p:spPr>
          <a:xfrm>
            <a:off x="0" y="3844800"/>
            <a:ext cx="9144000" cy="30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4" name="Group 6"/>
          <p:cNvGrpSpPr/>
          <p:nvPr/>
        </p:nvGrpSpPr>
        <p:grpSpPr>
          <a:xfrm>
            <a:off x="266760" y="2720880"/>
            <a:ext cx="8753040" cy="1812960"/>
            <a:chOff x="266760" y="2720880"/>
            <a:chExt cx="8753040" cy="1812960"/>
          </a:xfrm>
        </p:grpSpPr>
        <p:sp>
          <p:nvSpPr>
            <p:cNvPr id="4555" name="Text Box 7"/>
            <p:cNvSpPr/>
            <p:nvPr/>
          </p:nvSpPr>
          <p:spPr>
            <a:xfrm>
              <a:off x="622440" y="41421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6" name="Group 8"/>
            <p:cNvGrpSpPr/>
            <p:nvPr/>
          </p:nvGrpSpPr>
          <p:grpSpPr>
            <a:xfrm>
              <a:off x="266760" y="2720880"/>
              <a:ext cx="8753040" cy="1346040"/>
              <a:chOff x="266760" y="2720880"/>
              <a:chExt cx="8753040" cy="1346040"/>
            </a:xfrm>
          </p:grpSpPr>
          <p:grpSp>
            <p:nvGrpSpPr>
              <p:cNvPr id="4557" name="Group 9"/>
              <p:cNvGrpSpPr/>
              <p:nvPr/>
            </p:nvGrpSpPr>
            <p:grpSpPr>
              <a:xfrm>
                <a:off x="266760" y="2720880"/>
                <a:ext cx="8753040" cy="1346040"/>
                <a:chOff x="266760" y="2720880"/>
                <a:chExt cx="8753040" cy="1346040"/>
              </a:xfrm>
            </p:grpSpPr>
            <p:grpSp>
              <p:nvGrpSpPr>
                <p:cNvPr id="4558" name="Group 10"/>
                <p:cNvGrpSpPr/>
                <p:nvPr/>
              </p:nvGrpSpPr>
              <p:grpSpPr>
                <a:xfrm>
                  <a:off x="266760" y="2720880"/>
                  <a:ext cx="8753040" cy="1346040"/>
                  <a:chOff x="266760" y="2720880"/>
                  <a:chExt cx="8753040" cy="1346040"/>
                </a:xfrm>
              </p:grpSpPr>
              <p:grpSp>
                <p:nvGrpSpPr>
                  <p:cNvPr id="4559" name="Group 11"/>
                  <p:cNvGrpSpPr/>
                  <p:nvPr/>
                </p:nvGrpSpPr>
                <p:grpSpPr>
                  <a:xfrm>
                    <a:off x="266760" y="2720880"/>
                    <a:ext cx="8753040" cy="1346040"/>
                    <a:chOff x="266760" y="2720880"/>
                    <a:chExt cx="8753040" cy="1346040"/>
                  </a:xfrm>
                </p:grpSpPr>
                <p:sp>
                  <p:nvSpPr>
                    <p:cNvPr id="4560" name="AutoShape 12"/>
                    <p:cNvSpPr/>
                    <p:nvPr/>
                  </p:nvSpPr>
                  <p:spPr>
                    <a:xfrm>
                      <a:off x="266760" y="27720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1" name="AutoShape 13"/>
                    <p:cNvSpPr/>
                    <p:nvPr/>
                  </p:nvSpPr>
                  <p:spPr>
                    <a:xfrm>
                      <a:off x="389160" y="29012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2" name="AutoShape 14"/>
                    <p:cNvSpPr/>
                    <p:nvPr/>
                  </p:nvSpPr>
                  <p:spPr>
                    <a:xfrm>
                      <a:off x="2367720" y="27720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63" name="Group 15"/>
                    <p:cNvGrpSpPr/>
                    <p:nvPr/>
                  </p:nvGrpSpPr>
                  <p:grpSpPr>
                    <a:xfrm>
                      <a:off x="726480" y="2720880"/>
                      <a:ext cx="8293320" cy="1346040"/>
                      <a:chOff x="726480" y="2720880"/>
                      <a:chExt cx="8293320" cy="1346040"/>
                    </a:xfrm>
                  </p:grpSpPr>
                  <p:sp>
                    <p:nvSpPr>
                      <p:cNvPr id="4564" name="AutoShape 16"/>
                      <p:cNvSpPr/>
                      <p:nvPr/>
                    </p:nvSpPr>
                    <p:spPr>
                      <a:xfrm>
                        <a:off x="6568920" y="27720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5" name="AutoShape 17"/>
                      <p:cNvSpPr/>
                      <p:nvPr/>
                    </p:nvSpPr>
                    <p:spPr>
                      <a:xfrm>
                        <a:off x="6691680" y="29012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566" name="Group 18"/>
                      <p:cNvGrpSpPr/>
                      <p:nvPr/>
                    </p:nvGrpSpPr>
                    <p:grpSpPr>
                      <a:xfrm>
                        <a:off x="726480" y="2720880"/>
                        <a:ext cx="7834320" cy="1339920"/>
                        <a:chOff x="726480" y="2720880"/>
                        <a:chExt cx="7834320" cy="1339920"/>
                      </a:xfrm>
                    </p:grpSpPr>
                    <p:sp>
                      <p:nvSpPr>
                        <p:cNvPr id="4567" name="AutoShape 19"/>
                        <p:cNvSpPr/>
                        <p:nvPr/>
                      </p:nvSpPr>
                      <p:spPr>
                        <a:xfrm>
                          <a:off x="248940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8" name="AutoShape 20"/>
                        <p:cNvSpPr/>
                        <p:nvPr/>
                      </p:nvSpPr>
                      <p:spPr>
                        <a:xfrm>
                          <a:off x="4468680" y="27658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9" name="AutoShape 21"/>
                        <p:cNvSpPr/>
                        <p:nvPr/>
                      </p:nvSpPr>
                      <p:spPr>
                        <a:xfrm>
                          <a:off x="459072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570" name="Group 22"/>
                        <p:cNvGrpSpPr/>
                        <p:nvPr/>
                      </p:nvGrpSpPr>
                      <p:grpSpPr>
                        <a:xfrm>
                          <a:off x="726480" y="2720880"/>
                          <a:ext cx="7834320" cy="269280"/>
                          <a:chOff x="726480" y="2720880"/>
                          <a:chExt cx="7834320" cy="269280"/>
                        </a:xfrm>
                      </p:grpSpPr>
                      <p:sp>
                        <p:nvSpPr>
                          <p:cNvPr id="4571" name="Text Box 23"/>
                          <p:cNvSpPr/>
                          <p:nvPr/>
                        </p:nvSpPr>
                        <p:spPr>
                          <a:xfrm>
                            <a:off x="4911840" y="27208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2" name="Text Box 24"/>
                          <p:cNvSpPr/>
                          <p:nvPr/>
                        </p:nvSpPr>
                        <p:spPr>
                          <a:xfrm>
                            <a:off x="7029360" y="27208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3" name="Text Box 25"/>
                          <p:cNvSpPr/>
                          <p:nvPr/>
                        </p:nvSpPr>
                        <p:spPr>
                          <a:xfrm>
                            <a:off x="282744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4" name="Text Box 26"/>
                          <p:cNvSpPr/>
                          <p:nvPr/>
                        </p:nvSpPr>
                        <p:spPr>
                          <a:xfrm>
                            <a:off x="72648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75" name="Group 27"/>
                      <p:cNvGrpSpPr/>
                      <p:nvPr/>
                    </p:nvGrpSpPr>
                    <p:grpSpPr>
                      <a:xfrm>
                        <a:off x="4380120" y="2848680"/>
                        <a:ext cx="437760" cy="896400"/>
                        <a:chOff x="4380120" y="2848680"/>
                        <a:chExt cx="437760" cy="896400"/>
                      </a:xfrm>
                    </p:grpSpPr>
                    <p:grpSp>
                      <p:nvGrpSpPr>
                        <p:cNvPr id="4576" name="Group 28"/>
                        <p:cNvGrpSpPr/>
                        <p:nvPr/>
                      </p:nvGrpSpPr>
                      <p:grpSpPr>
                        <a:xfrm>
                          <a:off x="4494960" y="2848680"/>
                          <a:ext cx="322920" cy="896400"/>
                          <a:chOff x="4494960" y="2848680"/>
                          <a:chExt cx="322920" cy="896400"/>
                        </a:xfrm>
                      </p:grpSpPr>
                      <p:grpSp>
                        <p:nvGrpSpPr>
                          <p:cNvPr id="4577" name="Group 29"/>
                          <p:cNvGrpSpPr/>
                          <p:nvPr/>
                        </p:nvGrpSpPr>
                        <p:grpSpPr>
                          <a:xfrm>
                            <a:off x="4494960" y="2903400"/>
                            <a:ext cx="322920" cy="841680"/>
                            <a:chOff x="4494960" y="2903400"/>
                            <a:chExt cx="322920" cy="841680"/>
                          </a:xfrm>
                        </p:grpSpPr>
                        <p:sp>
                          <p:nvSpPr>
                            <p:cNvPr id="4578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28954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79" name="Group 31"/>
                            <p:cNvGrpSpPr/>
                            <p:nvPr/>
                          </p:nvGrpSpPr>
                          <p:grpSpPr>
                            <a:xfrm>
                              <a:off x="4610160" y="3134520"/>
                              <a:ext cx="207720" cy="610560"/>
                              <a:chOff x="4610160" y="3134520"/>
                              <a:chExt cx="207720" cy="610560"/>
                            </a:xfrm>
                          </p:grpSpPr>
                          <p:grpSp>
                            <p:nvGrpSpPr>
                              <p:cNvPr id="4580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3518280"/>
                                <a:ext cx="207720" cy="226800"/>
                                <a:chOff x="4610160" y="3518280"/>
                                <a:chExt cx="207720" cy="226800"/>
                              </a:xfrm>
                            </p:grpSpPr>
                            <p:sp>
                              <p:nvSpPr>
                                <p:cNvPr id="4581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35359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2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35920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3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35258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84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134520"/>
                                <a:ext cx="120960" cy="453240"/>
                                <a:chOff x="4691520" y="3134520"/>
                                <a:chExt cx="120960" cy="453240"/>
                              </a:xfrm>
                            </p:grpSpPr>
                            <p:sp>
                              <p:nvSpPr>
                                <p:cNvPr id="4585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1345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6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1395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7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31557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588" name="Line 40"/>
                          <p:cNvSpPr/>
                          <p:nvPr/>
                        </p:nvSpPr>
                        <p:spPr>
                          <a:xfrm flipH="1" flipV="1">
                            <a:off x="4522320" y="2848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89" name="Line 41"/>
                        <p:cNvSpPr/>
                        <p:nvPr/>
                      </p:nvSpPr>
                      <p:spPr>
                        <a:xfrm flipH="1" flipV="1">
                          <a:off x="4380120" y="2889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90" name="Group 42"/>
                      <p:cNvGrpSpPr/>
                      <p:nvPr/>
                    </p:nvGrpSpPr>
                    <p:grpSpPr>
                      <a:xfrm>
                        <a:off x="6547320" y="3073680"/>
                        <a:ext cx="437760" cy="896400"/>
                        <a:chOff x="6547320" y="3073680"/>
                        <a:chExt cx="437760" cy="896400"/>
                      </a:xfrm>
                    </p:grpSpPr>
                    <p:grpSp>
                      <p:nvGrpSpPr>
                        <p:cNvPr id="4591" name="Group 43"/>
                        <p:cNvGrpSpPr/>
                        <p:nvPr/>
                      </p:nvGrpSpPr>
                      <p:grpSpPr>
                        <a:xfrm>
                          <a:off x="6547320" y="3073680"/>
                          <a:ext cx="322920" cy="896400"/>
                          <a:chOff x="6547320" y="3073680"/>
                          <a:chExt cx="322920" cy="896400"/>
                        </a:xfrm>
                      </p:grpSpPr>
                      <p:grpSp>
                        <p:nvGrpSpPr>
                          <p:cNvPr id="4592" name="Group 44"/>
                          <p:cNvGrpSpPr/>
                          <p:nvPr/>
                        </p:nvGrpSpPr>
                        <p:grpSpPr>
                          <a:xfrm>
                            <a:off x="6547320" y="3073680"/>
                            <a:ext cx="322920" cy="841680"/>
                            <a:chOff x="6547320" y="3073680"/>
                            <a:chExt cx="322920" cy="841680"/>
                          </a:xfrm>
                        </p:grpSpPr>
                        <p:sp>
                          <p:nvSpPr>
                            <p:cNvPr id="4593" name="Rectangle 45"/>
                            <p:cNvSpPr/>
                            <p:nvPr/>
                          </p:nvSpPr>
                          <p:spPr>
                            <a:xfrm rot="8086800">
                              <a:off x="6660720" y="3602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94" name="Group 46"/>
                            <p:cNvGrpSpPr/>
                            <p:nvPr/>
                          </p:nvGrpSpPr>
                          <p:grpSpPr>
                            <a:xfrm>
                              <a:off x="6547320" y="3073680"/>
                              <a:ext cx="207720" cy="610560"/>
                              <a:chOff x="6547320" y="3073680"/>
                              <a:chExt cx="207720" cy="610560"/>
                            </a:xfrm>
                          </p:grpSpPr>
                          <p:grpSp>
                            <p:nvGrpSpPr>
                              <p:cNvPr id="4595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073680"/>
                                <a:ext cx="207720" cy="226800"/>
                                <a:chOff x="6547320" y="3073680"/>
                                <a:chExt cx="207720" cy="226800"/>
                              </a:xfrm>
                            </p:grpSpPr>
                            <p:sp>
                              <p:nvSpPr>
                                <p:cNvPr id="4596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096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97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0736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98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3156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99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3231000"/>
                                <a:ext cx="120960" cy="453240"/>
                                <a:chOff x="6552720" y="3231000"/>
                                <a:chExt cx="120960" cy="453240"/>
                              </a:xfrm>
                            </p:grpSpPr>
                            <p:sp>
                              <p:nvSpPr>
                                <p:cNvPr id="4600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32468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01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32310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02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32626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03" name="Line 55"/>
                          <p:cNvSpPr/>
                          <p:nvPr/>
                        </p:nvSpPr>
                        <p:spPr>
                          <a:xfrm>
                            <a:off x="6552000" y="36716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04" name="Line 56"/>
                        <p:cNvSpPr/>
                        <p:nvPr/>
                      </p:nvSpPr>
                      <p:spPr>
                        <a:xfrm>
                          <a:off x="6694200" y="3656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05" name="Line 57"/>
                    <p:cNvSpPr/>
                    <p:nvPr/>
                  </p:nvSpPr>
                  <p:spPr>
                    <a:xfrm>
                      <a:off x="446760" y="34041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6" name="Text Box 58"/>
                    <p:cNvSpPr/>
                    <p:nvPr/>
                  </p:nvSpPr>
                  <p:spPr>
                    <a:xfrm>
                      <a:off x="988920" y="33210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7" name="Rectangle 59"/>
                    <p:cNvSpPr/>
                    <p:nvPr/>
                  </p:nvSpPr>
                  <p:spPr>
                    <a:xfrm rot="18886800">
                      <a:off x="2518200" y="36540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8" name="Rectangle 60"/>
                    <p:cNvSpPr/>
                    <p:nvPr/>
                  </p:nvSpPr>
                  <p:spPr>
                    <a:xfrm rot="18886800">
                      <a:off x="2491200" y="29156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9" name="Rectangle 61"/>
                    <p:cNvSpPr/>
                    <p:nvPr/>
                  </p:nvSpPr>
                  <p:spPr>
                    <a:xfrm rot="2740200">
                      <a:off x="2566440" y="36147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0" name="Group 62"/>
                    <p:cNvGrpSpPr/>
                    <p:nvPr/>
                  </p:nvGrpSpPr>
                  <p:grpSpPr>
                    <a:xfrm>
                      <a:off x="2563920" y="3141000"/>
                      <a:ext cx="123480" cy="527040"/>
                      <a:chOff x="2563920" y="3141000"/>
                      <a:chExt cx="123480" cy="527040"/>
                    </a:xfrm>
                  </p:grpSpPr>
                  <p:sp>
                    <p:nvSpPr>
                      <p:cNvPr id="4611" name="Rectangle 63"/>
                      <p:cNvSpPr/>
                      <p:nvPr/>
                    </p:nvSpPr>
                    <p:spPr>
                      <a:xfrm>
                        <a:off x="2563920" y="31410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2" name="Line 64"/>
                      <p:cNvSpPr/>
                      <p:nvPr/>
                    </p:nvSpPr>
                    <p:spPr>
                      <a:xfrm>
                        <a:off x="2687400" y="31471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3" name="Line 65"/>
                      <p:cNvSpPr/>
                      <p:nvPr/>
                    </p:nvSpPr>
                    <p:spPr>
                      <a:xfrm>
                        <a:off x="2563920" y="31658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14" name="Line 66"/>
                  <p:cNvSpPr/>
                  <p:nvPr/>
                </p:nvSpPr>
                <p:spPr>
                  <a:xfrm>
                    <a:off x="2378160" y="28044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Line 67"/>
                  <p:cNvSpPr/>
                  <p:nvPr/>
                </p:nvSpPr>
                <p:spPr>
                  <a:xfrm>
                    <a:off x="2316240" y="29124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6" name="Line 68"/>
                <p:cNvSpPr/>
                <p:nvPr/>
              </p:nvSpPr>
              <p:spPr>
                <a:xfrm flipH="1">
                  <a:off x="2607120" y="36558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7" name="Line 69"/>
              <p:cNvSpPr/>
              <p:nvPr/>
            </p:nvSpPr>
            <p:spPr>
              <a:xfrm flipH="1">
                <a:off x="2545200" y="36507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8" name="Text Box 70"/>
          <p:cNvSpPr/>
          <p:nvPr/>
        </p:nvSpPr>
        <p:spPr>
          <a:xfrm>
            <a:off x="741240" y="2922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ece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Text Box 71"/>
          <p:cNvSpPr/>
          <p:nvPr/>
        </p:nvSpPr>
        <p:spPr>
          <a:xfrm>
            <a:off x="2690640" y="298116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t a new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Text Box 72"/>
          <p:cNvSpPr/>
          <p:nvPr/>
        </p:nvSpPr>
        <p:spPr>
          <a:xfrm>
            <a:off x="571680" y="342900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Text Box 73"/>
          <p:cNvSpPr/>
          <p:nvPr/>
        </p:nvSpPr>
        <p:spPr>
          <a:xfrm>
            <a:off x="4863960" y="2911320"/>
            <a:ext cx="175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resident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ade a long spee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2" name="Group 77"/>
          <p:cNvGrpSpPr/>
          <p:nvPr/>
        </p:nvGrpSpPr>
        <p:grpSpPr>
          <a:xfrm>
            <a:off x="2100240" y="3728880"/>
            <a:ext cx="6157800" cy="2804760"/>
            <a:chOff x="2100240" y="3728880"/>
            <a:chExt cx="6157800" cy="2804760"/>
          </a:xfrm>
        </p:grpSpPr>
        <p:sp>
          <p:nvSpPr>
            <p:cNvPr id="4623" name="Text Box 75"/>
            <p:cNvSpPr/>
            <p:nvPr/>
          </p:nvSpPr>
          <p:spPr>
            <a:xfrm>
              <a:off x="2100240" y="4786200"/>
              <a:ext cx="61578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POO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LINCing S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residents make long speeches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all the time, so the story doesn’t make the student think of setting a new 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Line 76"/>
            <p:cNvSpPr/>
            <p:nvPr/>
          </p:nvSpPr>
          <p:spPr>
            <a:xfrm flipV="1">
              <a:off x="4886280" y="3728880"/>
              <a:ext cx="314280" cy="112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AutoShape 5"/>
          <p:cNvSpPr/>
          <p:nvPr/>
        </p:nvSpPr>
        <p:spPr>
          <a:xfrm>
            <a:off x="3125880" y="2965320"/>
            <a:ext cx="7176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10b213"/>
                </a:solidFill>
                <a:latin typeface="Comic Sans MS"/>
              </a:rPr>
              <a:t>LINC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57132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an element related to the Reminding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elements related to essential parts of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Rectangle 10"/>
          <p:cNvSpPr/>
          <p:nvPr/>
        </p:nvSpPr>
        <p:spPr>
          <a:xfrm>
            <a:off x="29682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Rectangle 11"/>
          <p:cNvSpPr/>
          <p:nvPr/>
        </p:nvSpPr>
        <p:spPr>
          <a:xfrm>
            <a:off x="33570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Rectangle 12"/>
          <p:cNvSpPr/>
          <p:nvPr/>
        </p:nvSpPr>
        <p:spPr>
          <a:xfrm>
            <a:off x="37476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Rectangle 13"/>
          <p:cNvSpPr/>
          <p:nvPr/>
        </p:nvSpPr>
        <p:spPr>
          <a:xfrm>
            <a:off x="41364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Rectangle 15"/>
          <p:cNvSpPr/>
          <p:nvPr/>
        </p:nvSpPr>
        <p:spPr>
          <a:xfrm>
            <a:off x="56955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Rectangle 16"/>
          <p:cNvSpPr/>
          <p:nvPr/>
        </p:nvSpPr>
        <p:spPr>
          <a:xfrm>
            <a:off x="60843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Rectangle 17"/>
          <p:cNvSpPr/>
          <p:nvPr/>
        </p:nvSpPr>
        <p:spPr>
          <a:xfrm>
            <a:off x="64749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Rectangle 19"/>
          <p:cNvSpPr/>
          <p:nvPr/>
        </p:nvSpPr>
        <p:spPr>
          <a:xfrm>
            <a:off x="7914240" y="2195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Rectangle 21"/>
          <p:cNvSpPr/>
          <p:nvPr/>
        </p:nvSpPr>
        <p:spPr>
          <a:xfrm>
            <a:off x="41360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Rectangle 23"/>
          <p:cNvSpPr/>
          <p:nvPr/>
        </p:nvSpPr>
        <p:spPr>
          <a:xfrm>
            <a:off x="49154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Rectangle 24"/>
          <p:cNvSpPr/>
          <p:nvPr/>
        </p:nvSpPr>
        <p:spPr>
          <a:xfrm>
            <a:off x="53042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Rectangle 25"/>
          <p:cNvSpPr/>
          <p:nvPr/>
        </p:nvSpPr>
        <p:spPr>
          <a:xfrm>
            <a:off x="56948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Rectangle 26"/>
          <p:cNvSpPr/>
          <p:nvPr/>
        </p:nvSpPr>
        <p:spPr>
          <a:xfrm>
            <a:off x="608400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Rectangle 87"/>
          <p:cNvSpPr/>
          <p:nvPr/>
        </p:nvSpPr>
        <p:spPr>
          <a:xfrm>
            <a:off x="3770280" y="4584600"/>
            <a:ext cx="63360" cy="101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2" name="Group 98"/>
          <p:cNvGrpSpPr/>
          <p:nvPr/>
        </p:nvGrpSpPr>
        <p:grpSpPr>
          <a:xfrm>
            <a:off x="419040" y="3892680"/>
            <a:ext cx="8753040" cy="1812960"/>
            <a:chOff x="419040" y="3892680"/>
            <a:chExt cx="8753040" cy="1812960"/>
          </a:xfrm>
        </p:grpSpPr>
        <p:sp>
          <p:nvSpPr>
            <p:cNvPr id="4643" name="Text Box 99"/>
            <p:cNvSpPr/>
            <p:nvPr/>
          </p:nvSpPr>
          <p:spPr>
            <a:xfrm>
              <a:off x="774720" y="5313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4" name="Group 100"/>
            <p:cNvGrpSpPr/>
            <p:nvPr/>
          </p:nvGrpSpPr>
          <p:grpSpPr>
            <a:xfrm>
              <a:off x="419040" y="3892680"/>
              <a:ext cx="8753040" cy="1346040"/>
              <a:chOff x="419040" y="3892680"/>
              <a:chExt cx="8753040" cy="1346040"/>
            </a:xfrm>
          </p:grpSpPr>
          <p:grpSp>
            <p:nvGrpSpPr>
              <p:cNvPr id="4645" name="Group 101"/>
              <p:cNvGrpSpPr/>
              <p:nvPr/>
            </p:nvGrpSpPr>
            <p:grpSpPr>
              <a:xfrm>
                <a:off x="419040" y="3892680"/>
                <a:ext cx="8753040" cy="1346040"/>
                <a:chOff x="419040" y="3892680"/>
                <a:chExt cx="8753040" cy="1346040"/>
              </a:xfrm>
            </p:grpSpPr>
            <p:grpSp>
              <p:nvGrpSpPr>
                <p:cNvPr id="4646" name="Group 102"/>
                <p:cNvGrpSpPr/>
                <p:nvPr/>
              </p:nvGrpSpPr>
              <p:grpSpPr>
                <a:xfrm>
                  <a:off x="419040" y="3892680"/>
                  <a:ext cx="8753040" cy="1346040"/>
                  <a:chOff x="419040" y="3892680"/>
                  <a:chExt cx="8753040" cy="1346040"/>
                </a:xfrm>
              </p:grpSpPr>
              <p:grpSp>
                <p:nvGrpSpPr>
                  <p:cNvPr id="4647" name="Group 103"/>
                  <p:cNvGrpSpPr/>
                  <p:nvPr/>
                </p:nvGrpSpPr>
                <p:grpSpPr>
                  <a:xfrm>
                    <a:off x="419040" y="3892680"/>
                    <a:ext cx="8753040" cy="1346040"/>
                    <a:chOff x="419040" y="3892680"/>
                    <a:chExt cx="8753040" cy="1346040"/>
                  </a:xfrm>
                </p:grpSpPr>
                <p:sp>
                  <p:nvSpPr>
                    <p:cNvPr id="4648" name="AutoShape 104"/>
                    <p:cNvSpPr/>
                    <p:nvPr/>
                  </p:nvSpPr>
                  <p:spPr>
                    <a:xfrm>
                      <a:off x="419040" y="3943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9" name="AutoShape 105"/>
                    <p:cNvSpPr/>
                    <p:nvPr/>
                  </p:nvSpPr>
                  <p:spPr>
                    <a:xfrm>
                      <a:off x="541440" y="4073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0" name="AutoShape 106"/>
                    <p:cNvSpPr/>
                    <p:nvPr/>
                  </p:nvSpPr>
                  <p:spPr>
                    <a:xfrm>
                      <a:off x="2520000" y="3943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51" name="Group 107"/>
                    <p:cNvGrpSpPr/>
                    <p:nvPr/>
                  </p:nvGrpSpPr>
                  <p:grpSpPr>
                    <a:xfrm>
                      <a:off x="878760" y="3892680"/>
                      <a:ext cx="8293320" cy="1346040"/>
                      <a:chOff x="878760" y="3892680"/>
                      <a:chExt cx="8293320" cy="1346040"/>
                    </a:xfrm>
                  </p:grpSpPr>
                  <p:sp>
                    <p:nvSpPr>
                      <p:cNvPr id="4652" name="AutoShape 108"/>
                      <p:cNvSpPr/>
                      <p:nvPr/>
                    </p:nvSpPr>
                    <p:spPr>
                      <a:xfrm>
                        <a:off x="6721200" y="3943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3" name="AutoShape 109"/>
                      <p:cNvSpPr/>
                      <p:nvPr/>
                    </p:nvSpPr>
                    <p:spPr>
                      <a:xfrm>
                        <a:off x="6843960" y="4073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654" name="Group 110"/>
                      <p:cNvGrpSpPr/>
                      <p:nvPr/>
                    </p:nvGrpSpPr>
                    <p:grpSpPr>
                      <a:xfrm>
                        <a:off x="878760" y="3892680"/>
                        <a:ext cx="7834320" cy="1339920"/>
                        <a:chOff x="878760" y="3892680"/>
                        <a:chExt cx="7834320" cy="1339920"/>
                      </a:xfrm>
                    </p:grpSpPr>
                    <p:sp>
                      <p:nvSpPr>
                        <p:cNvPr id="4655" name="AutoShape 111"/>
                        <p:cNvSpPr/>
                        <p:nvPr/>
                      </p:nvSpPr>
                      <p:spPr>
                        <a:xfrm>
                          <a:off x="264168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6" name="AutoShape 112"/>
                        <p:cNvSpPr/>
                        <p:nvPr/>
                      </p:nvSpPr>
                      <p:spPr>
                        <a:xfrm>
                          <a:off x="4620960" y="3937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7" name="AutoShape 113"/>
                        <p:cNvSpPr/>
                        <p:nvPr/>
                      </p:nvSpPr>
                      <p:spPr>
                        <a:xfrm>
                          <a:off x="474300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658" name="Group 114"/>
                        <p:cNvGrpSpPr/>
                        <p:nvPr/>
                      </p:nvGrpSpPr>
                      <p:grpSpPr>
                        <a:xfrm>
                          <a:off x="878760" y="3892680"/>
                          <a:ext cx="7834320" cy="269280"/>
                          <a:chOff x="878760" y="3892680"/>
                          <a:chExt cx="7834320" cy="269280"/>
                        </a:xfrm>
                      </p:grpSpPr>
                      <p:sp>
                        <p:nvSpPr>
                          <p:cNvPr id="4659" name="Text Box 115"/>
                          <p:cNvSpPr/>
                          <p:nvPr/>
                        </p:nvSpPr>
                        <p:spPr>
                          <a:xfrm>
                            <a:off x="5064120" y="3892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0" name="Text Box 116"/>
                          <p:cNvSpPr/>
                          <p:nvPr/>
                        </p:nvSpPr>
                        <p:spPr>
                          <a:xfrm>
                            <a:off x="7181640" y="3892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1" name="Text Box 117"/>
                          <p:cNvSpPr/>
                          <p:nvPr/>
                        </p:nvSpPr>
                        <p:spPr>
                          <a:xfrm>
                            <a:off x="297972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2" name="Text Box 118"/>
                          <p:cNvSpPr/>
                          <p:nvPr/>
                        </p:nvSpPr>
                        <p:spPr>
                          <a:xfrm>
                            <a:off x="87876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663" name="Group 119"/>
                      <p:cNvGrpSpPr/>
                      <p:nvPr/>
                    </p:nvGrpSpPr>
                    <p:grpSpPr>
                      <a:xfrm>
                        <a:off x="4532400" y="4020480"/>
                        <a:ext cx="437760" cy="896400"/>
                        <a:chOff x="4532400" y="4020480"/>
                        <a:chExt cx="437760" cy="896400"/>
                      </a:xfrm>
                    </p:grpSpPr>
                    <p:grpSp>
                      <p:nvGrpSpPr>
                        <p:cNvPr id="4664" name="Group 120"/>
                        <p:cNvGrpSpPr/>
                        <p:nvPr/>
                      </p:nvGrpSpPr>
                      <p:grpSpPr>
                        <a:xfrm>
                          <a:off x="4647240" y="4020480"/>
                          <a:ext cx="322920" cy="896400"/>
                          <a:chOff x="4647240" y="4020480"/>
                          <a:chExt cx="322920" cy="896400"/>
                        </a:xfrm>
                      </p:grpSpPr>
                      <p:grpSp>
                        <p:nvGrpSpPr>
                          <p:cNvPr id="4665" name="Group 121"/>
                          <p:cNvGrpSpPr/>
                          <p:nvPr/>
                        </p:nvGrpSpPr>
                        <p:grpSpPr>
                          <a:xfrm>
                            <a:off x="4647240" y="4075200"/>
                            <a:ext cx="322920" cy="841680"/>
                            <a:chOff x="4647240" y="4075200"/>
                            <a:chExt cx="322920" cy="841680"/>
                          </a:xfrm>
                        </p:grpSpPr>
                        <p:sp>
                          <p:nvSpPr>
                            <p:cNvPr id="4666" name="Rectangle 122"/>
                            <p:cNvSpPr/>
                            <p:nvPr/>
                          </p:nvSpPr>
                          <p:spPr>
                            <a:xfrm rot="18886800">
                              <a:off x="4744080" y="4067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667" name="Group 123"/>
                            <p:cNvGrpSpPr/>
                            <p:nvPr/>
                          </p:nvGrpSpPr>
                          <p:grpSpPr>
                            <a:xfrm>
                              <a:off x="4762440" y="4306320"/>
                              <a:ext cx="207720" cy="610560"/>
                              <a:chOff x="4762440" y="4306320"/>
                              <a:chExt cx="207720" cy="610560"/>
                            </a:xfrm>
                          </p:grpSpPr>
                          <p:grpSp>
                            <p:nvGrpSpPr>
                              <p:cNvPr id="4668" name="Group 124"/>
                              <p:cNvGrpSpPr/>
                              <p:nvPr/>
                            </p:nvGrpSpPr>
                            <p:grpSpPr>
                              <a:xfrm>
                                <a:off x="4762440" y="4690080"/>
                                <a:ext cx="207720" cy="226800"/>
                                <a:chOff x="4762440" y="4690080"/>
                                <a:chExt cx="207720" cy="226800"/>
                              </a:xfrm>
                            </p:grpSpPr>
                            <p:sp>
                              <p:nvSpPr>
                                <p:cNvPr id="4669" name="Rectangle 125"/>
                                <p:cNvSpPr/>
                                <p:nvPr/>
                              </p:nvSpPr>
                              <p:spPr>
                                <a:xfrm rot="2187600">
                                  <a:off x="4805640" y="4707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0" name="Line 126"/>
                                <p:cNvSpPr/>
                                <p:nvPr/>
                              </p:nvSpPr>
                              <p:spPr>
                                <a:xfrm flipH="1">
                                  <a:off x="4855680" y="4763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1" name="Line 127"/>
                                <p:cNvSpPr/>
                                <p:nvPr/>
                              </p:nvSpPr>
                              <p:spPr>
                                <a:xfrm flipH="1">
                                  <a:off x="4766400" y="4697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72" name="Group 128"/>
                              <p:cNvGrpSpPr/>
                              <p:nvPr/>
                            </p:nvGrpSpPr>
                            <p:grpSpPr>
                              <a:xfrm>
                                <a:off x="4843800" y="4306320"/>
                                <a:ext cx="120960" cy="453240"/>
                                <a:chOff x="4843800" y="4306320"/>
                                <a:chExt cx="120960" cy="453240"/>
                              </a:xfrm>
                            </p:grpSpPr>
                            <p:sp>
                              <p:nvSpPr>
                                <p:cNvPr id="4673" name="Rectangle 129"/>
                                <p:cNvSpPr/>
                                <p:nvPr/>
                              </p:nvSpPr>
                              <p:spPr>
                                <a:xfrm>
                                  <a:off x="4843800" y="4306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4" name="Line 130"/>
                                <p:cNvSpPr/>
                                <p:nvPr/>
                              </p:nvSpPr>
                              <p:spPr>
                                <a:xfrm>
                                  <a:off x="4964760" y="4311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5" name="Line 131"/>
                                <p:cNvSpPr/>
                                <p:nvPr/>
                              </p:nvSpPr>
                              <p:spPr>
                                <a:xfrm>
                                  <a:off x="4843800" y="4327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76" name="Line 132"/>
                          <p:cNvSpPr/>
                          <p:nvPr/>
                        </p:nvSpPr>
                        <p:spPr>
                          <a:xfrm flipH="1" flipV="1">
                            <a:off x="4674600" y="4020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77" name="Line 133"/>
                        <p:cNvSpPr/>
                        <p:nvPr/>
                      </p:nvSpPr>
                      <p:spPr>
                        <a:xfrm flipH="1" flipV="1">
                          <a:off x="4532400" y="4060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8" name="Group 134"/>
                      <p:cNvGrpSpPr/>
                      <p:nvPr/>
                    </p:nvGrpSpPr>
                    <p:grpSpPr>
                      <a:xfrm>
                        <a:off x="6699600" y="4245480"/>
                        <a:ext cx="437760" cy="896400"/>
                        <a:chOff x="6699600" y="4245480"/>
                        <a:chExt cx="437760" cy="896400"/>
                      </a:xfrm>
                    </p:grpSpPr>
                    <p:grpSp>
                      <p:nvGrpSpPr>
                        <p:cNvPr id="4679" name="Group 135"/>
                        <p:cNvGrpSpPr/>
                        <p:nvPr/>
                      </p:nvGrpSpPr>
                      <p:grpSpPr>
                        <a:xfrm>
                          <a:off x="6699600" y="4245480"/>
                          <a:ext cx="322920" cy="896400"/>
                          <a:chOff x="6699600" y="4245480"/>
                          <a:chExt cx="322920" cy="896400"/>
                        </a:xfrm>
                      </p:grpSpPr>
                      <p:grpSp>
                        <p:nvGrpSpPr>
                          <p:cNvPr id="4680" name="Group 136"/>
                          <p:cNvGrpSpPr/>
                          <p:nvPr/>
                        </p:nvGrpSpPr>
                        <p:grpSpPr>
                          <a:xfrm>
                            <a:off x="6699600" y="4245480"/>
                            <a:ext cx="322920" cy="841680"/>
                            <a:chOff x="6699600" y="4245480"/>
                            <a:chExt cx="322920" cy="841680"/>
                          </a:xfrm>
                        </p:grpSpPr>
                        <p:sp>
                          <p:nvSpPr>
                            <p:cNvPr id="4681" name="Rectangle 137"/>
                            <p:cNvSpPr/>
                            <p:nvPr/>
                          </p:nvSpPr>
                          <p:spPr>
                            <a:xfrm rot="8086800">
                              <a:off x="6813000" y="4774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682" name="Group 138"/>
                            <p:cNvGrpSpPr/>
                            <p:nvPr/>
                          </p:nvGrpSpPr>
                          <p:grpSpPr>
                            <a:xfrm>
                              <a:off x="6699600" y="4245480"/>
                              <a:ext cx="207720" cy="610560"/>
                              <a:chOff x="6699600" y="4245480"/>
                              <a:chExt cx="207720" cy="610560"/>
                            </a:xfrm>
                          </p:grpSpPr>
                          <p:grpSp>
                            <p:nvGrpSpPr>
                              <p:cNvPr id="4683" name="Group 139"/>
                              <p:cNvGrpSpPr/>
                              <p:nvPr/>
                            </p:nvGrpSpPr>
                            <p:grpSpPr>
                              <a:xfrm>
                                <a:off x="6699600" y="4245480"/>
                                <a:ext cx="207720" cy="226800"/>
                                <a:chOff x="6699600" y="4245480"/>
                                <a:chExt cx="207720" cy="226800"/>
                              </a:xfrm>
                            </p:grpSpPr>
                            <p:sp>
                              <p:nvSpPr>
                                <p:cNvPr id="4684" name="Rectangle 140"/>
                                <p:cNvSpPr/>
                                <p:nvPr/>
                              </p:nvSpPr>
                              <p:spPr>
                                <a:xfrm rot="12987600">
                                  <a:off x="6742800" y="4268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85" name="Line 141"/>
                                <p:cNvSpPr/>
                                <p:nvPr/>
                              </p:nvSpPr>
                              <p:spPr>
                                <a:xfrm flipV="1">
                                  <a:off x="6701040" y="4245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86" name="Line 142"/>
                                <p:cNvSpPr/>
                                <p:nvPr/>
                              </p:nvSpPr>
                              <p:spPr>
                                <a:xfrm flipV="1">
                                  <a:off x="6802200" y="4328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87" name="Group 143"/>
                              <p:cNvGrpSpPr/>
                              <p:nvPr/>
                            </p:nvGrpSpPr>
                            <p:grpSpPr>
                              <a:xfrm>
                                <a:off x="6705000" y="4402800"/>
                                <a:ext cx="120960" cy="453240"/>
                                <a:chOff x="6705000" y="4402800"/>
                                <a:chExt cx="120960" cy="453240"/>
                              </a:xfrm>
                            </p:grpSpPr>
                            <p:sp>
                              <p:nvSpPr>
                                <p:cNvPr id="4688" name="Rectangle 144"/>
                                <p:cNvSpPr/>
                                <p:nvPr/>
                              </p:nvSpPr>
                              <p:spPr>
                                <a:xfrm rot="10800000">
                                  <a:off x="6705000" y="4418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89" name="Line 145"/>
                                <p:cNvSpPr/>
                                <p:nvPr/>
                              </p:nvSpPr>
                              <p:spPr>
                                <a:xfrm flipV="1">
                                  <a:off x="6705000" y="4402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90" name="Line 146"/>
                                <p:cNvSpPr/>
                                <p:nvPr/>
                              </p:nvSpPr>
                              <p:spPr>
                                <a:xfrm>
                                  <a:off x="6825960" y="4434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91" name="Line 147"/>
                          <p:cNvSpPr/>
                          <p:nvPr/>
                        </p:nvSpPr>
                        <p:spPr>
                          <a:xfrm>
                            <a:off x="6704280" y="4843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92" name="Line 148"/>
                        <p:cNvSpPr/>
                        <p:nvPr/>
                      </p:nvSpPr>
                      <p:spPr>
                        <a:xfrm>
                          <a:off x="6846480" y="4828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93" name="Line 149"/>
                    <p:cNvSpPr/>
                    <p:nvPr/>
                  </p:nvSpPr>
                  <p:spPr>
                    <a:xfrm>
                      <a:off x="599040" y="4575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4" name="Text Box 150"/>
                    <p:cNvSpPr/>
                    <p:nvPr/>
                  </p:nvSpPr>
                  <p:spPr>
                    <a:xfrm>
                      <a:off x="1141200" y="4492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5" name="Rectangle 151"/>
                    <p:cNvSpPr/>
                    <p:nvPr/>
                  </p:nvSpPr>
                  <p:spPr>
                    <a:xfrm rot="18886800">
                      <a:off x="2670480" y="4825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6" name="Rectangle 152"/>
                    <p:cNvSpPr/>
                    <p:nvPr/>
                  </p:nvSpPr>
                  <p:spPr>
                    <a:xfrm rot="18886800">
                      <a:off x="2643480" y="4087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7" name="Rectangle 153"/>
                    <p:cNvSpPr/>
                    <p:nvPr/>
                  </p:nvSpPr>
                  <p:spPr>
                    <a:xfrm rot="2740200">
                      <a:off x="2718720" y="4786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98" name="Group 154"/>
                    <p:cNvGrpSpPr/>
                    <p:nvPr/>
                  </p:nvGrpSpPr>
                  <p:grpSpPr>
                    <a:xfrm>
                      <a:off x="2716200" y="4312800"/>
                      <a:ext cx="123480" cy="527040"/>
                      <a:chOff x="2716200" y="4312800"/>
                      <a:chExt cx="123480" cy="527040"/>
                    </a:xfrm>
                  </p:grpSpPr>
                  <p:sp>
                    <p:nvSpPr>
                      <p:cNvPr id="4699" name="Rectangle 155"/>
                      <p:cNvSpPr/>
                      <p:nvPr/>
                    </p:nvSpPr>
                    <p:spPr>
                      <a:xfrm>
                        <a:off x="2716200" y="4312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0" name="Line 156"/>
                      <p:cNvSpPr/>
                      <p:nvPr/>
                    </p:nvSpPr>
                    <p:spPr>
                      <a:xfrm>
                        <a:off x="2839680" y="4318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1" name="Line 157"/>
                      <p:cNvSpPr/>
                      <p:nvPr/>
                    </p:nvSpPr>
                    <p:spPr>
                      <a:xfrm>
                        <a:off x="2716200" y="4337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02" name="Line 158"/>
                  <p:cNvSpPr/>
                  <p:nvPr/>
                </p:nvSpPr>
                <p:spPr>
                  <a:xfrm>
                    <a:off x="2530440" y="3976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Line 159"/>
                  <p:cNvSpPr/>
                  <p:nvPr/>
                </p:nvSpPr>
                <p:spPr>
                  <a:xfrm>
                    <a:off x="2468520" y="4084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4" name="Line 160"/>
                <p:cNvSpPr/>
                <p:nvPr/>
              </p:nvSpPr>
              <p:spPr>
                <a:xfrm flipH="1">
                  <a:off x="2759400" y="4827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5" name="Line 161"/>
              <p:cNvSpPr/>
              <p:nvPr/>
            </p:nvSpPr>
            <p:spPr>
              <a:xfrm flipH="1">
                <a:off x="2697480" y="4822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6" name="Text Box 162"/>
          <p:cNvSpPr/>
          <p:nvPr/>
        </p:nvSpPr>
        <p:spPr>
          <a:xfrm>
            <a:off x="669960" y="41655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nifest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Text Box 163"/>
          <p:cNvSpPr/>
          <p:nvPr/>
        </p:nvSpPr>
        <p:spPr>
          <a:xfrm>
            <a:off x="2843280" y="415296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od’s will was for US to expand its borders to west co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Text Box 164"/>
          <p:cNvSpPr/>
          <p:nvPr/>
        </p:nvSpPr>
        <p:spPr>
          <a:xfrm>
            <a:off x="723960" y="4600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Text Box 165"/>
          <p:cNvSpPr/>
          <p:nvPr/>
        </p:nvSpPr>
        <p:spPr>
          <a:xfrm>
            <a:off x="5016600" y="4083120"/>
            <a:ext cx="17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n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thought his destiny was to own the whole 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0" name="Picture 31" descr=""/>
          <p:cNvPicPr/>
          <p:nvPr/>
        </p:nvPicPr>
        <p:blipFill>
          <a:blip r:embed="rId1"/>
          <a:stretch/>
        </p:blipFill>
        <p:spPr>
          <a:xfrm>
            <a:off x="6805440" y="4172040"/>
            <a:ext cx="2338560" cy="876240"/>
          </a:xfrm>
          <a:prstGeom prst="rect">
            <a:avLst/>
          </a:prstGeom>
          <a:ln w="0">
            <a:noFill/>
          </a:ln>
        </p:spPr>
      </p:pic>
      <p:grpSp>
        <p:nvGrpSpPr>
          <p:cNvPr id="4711" name="Group 168"/>
          <p:cNvGrpSpPr/>
          <p:nvPr/>
        </p:nvGrpSpPr>
        <p:grpSpPr>
          <a:xfrm>
            <a:off x="5253120" y="4855680"/>
            <a:ext cx="3585960" cy="1568160"/>
            <a:chOff x="5253120" y="4855680"/>
            <a:chExt cx="3585960" cy="1568160"/>
          </a:xfrm>
        </p:grpSpPr>
        <p:sp>
          <p:nvSpPr>
            <p:cNvPr id="4712" name="Text Box 166"/>
            <p:cNvSpPr/>
            <p:nvPr/>
          </p:nvSpPr>
          <p:spPr>
            <a:xfrm>
              <a:off x="5253120" y="5964120"/>
              <a:ext cx="35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POOR LINCing Pi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Line 167"/>
            <p:cNvSpPr/>
            <p:nvPr/>
          </p:nvSpPr>
          <p:spPr>
            <a:xfrm flipV="1">
              <a:off x="6684840" y="4855680"/>
              <a:ext cx="782640" cy="1087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AutoShape 2"/>
          <p:cNvSpPr/>
          <p:nvPr/>
        </p:nvSpPr>
        <p:spPr>
          <a:xfrm>
            <a:off x="3125880" y="2965320"/>
            <a:ext cx="7176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10b213"/>
                </a:solidFill>
                <a:latin typeface="Comic Sans MS"/>
              </a:rPr>
              <a:t>LINC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/>
          </p:nvPr>
        </p:nvSpPr>
        <p:spPr>
          <a:xfrm>
            <a:off x="57132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an element related to the Reminding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elements related to essential parts of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Rectangle 5"/>
          <p:cNvSpPr/>
          <p:nvPr/>
        </p:nvSpPr>
        <p:spPr>
          <a:xfrm>
            <a:off x="29682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Rectangle 6"/>
          <p:cNvSpPr/>
          <p:nvPr/>
        </p:nvSpPr>
        <p:spPr>
          <a:xfrm>
            <a:off x="33570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Rectangle 7"/>
          <p:cNvSpPr/>
          <p:nvPr/>
        </p:nvSpPr>
        <p:spPr>
          <a:xfrm>
            <a:off x="37476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Rectangle 8"/>
          <p:cNvSpPr/>
          <p:nvPr/>
        </p:nvSpPr>
        <p:spPr>
          <a:xfrm>
            <a:off x="41364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Rectangle 9"/>
          <p:cNvSpPr/>
          <p:nvPr/>
        </p:nvSpPr>
        <p:spPr>
          <a:xfrm>
            <a:off x="56955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Rectangle 10"/>
          <p:cNvSpPr/>
          <p:nvPr/>
        </p:nvSpPr>
        <p:spPr>
          <a:xfrm>
            <a:off x="60843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Rectangle 11"/>
          <p:cNvSpPr/>
          <p:nvPr/>
        </p:nvSpPr>
        <p:spPr>
          <a:xfrm>
            <a:off x="64749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Rectangle 12"/>
          <p:cNvSpPr/>
          <p:nvPr/>
        </p:nvSpPr>
        <p:spPr>
          <a:xfrm>
            <a:off x="7914240" y="2195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Rectangle 13"/>
          <p:cNvSpPr/>
          <p:nvPr/>
        </p:nvSpPr>
        <p:spPr>
          <a:xfrm>
            <a:off x="41360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Rectangle 14"/>
          <p:cNvSpPr/>
          <p:nvPr/>
        </p:nvSpPr>
        <p:spPr>
          <a:xfrm>
            <a:off x="49154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Rectangle 15"/>
          <p:cNvSpPr/>
          <p:nvPr/>
        </p:nvSpPr>
        <p:spPr>
          <a:xfrm>
            <a:off x="53042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Rectangle 16"/>
          <p:cNvSpPr/>
          <p:nvPr/>
        </p:nvSpPr>
        <p:spPr>
          <a:xfrm>
            <a:off x="56948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Rectangle 17"/>
          <p:cNvSpPr/>
          <p:nvPr/>
        </p:nvSpPr>
        <p:spPr>
          <a:xfrm>
            <a:off x="608400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Rectangle 18"/>
          <p:cNvSpPr/>
          <p:nvPr/>
        </p:nvSpPr>
        <p:spPr>
          <a:xfrm>
            <a:off x="3770280" y="4584600"/>
            <a:ext cx="63360" cy="101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1" name="Group 19"/>
          <p:cNvGrpSpPr/>
          <p:nvPr/>
        </p:nvGrpSpPr>
        <p:grpSpPr>
          <a:xfrm>
            <a:off x="419040" y="3892680"/>
            <a:ext cx="8753040" cy="1812960"/>
            <a:chOff x="419040" y="3892680"/>
            <a:chExt cx="8753040" cy="1812960"/>
          </a:xfrm>
        </p:grpSpPr>
        <p:sp>
          <p:nvSpPr>
            <p:cNvPr id="4732" name="Text Box 20"/>
            <p:cNvSpPr/>
            <p:nvPr/>
          </p:nvSpPr>
          <p:spPr>
            <a:xfrm>
              <a:off x="774720" y="5313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3" name="Group 21"/>
            <p:cNvGrpSpPr/>
            <p:nvPr/>
          </p:nvGrpSpPr>
          <p:grpSpPr>
            <a:xfrm>
              <a:off x="419040" y="3892680"/>
              <a:ext cx="8753040" cy="1346040"/>
              <a:chOff x="419040" y="3892680"/>
              <a:chExt cx="8753040" cy="1346040"/>
            </a:xfrm>
          </p:grpSpPr>
          <p:grpSp>
            <p:nvGrpSpPr>
              <p:cNvPr id="4734" name="Group 22"/>
              <p:cNvGrpSpPr/>
              <p:nvPr/>
            </p:nvGrpSpPr>
            <p:grpSpPr>
              <a:xfrm>
                <a:off x="419040" y="3892680"/>
                <a:ext cx="8753040" cy="1346040"/>
                <a:chOff x="419040" y="3892680"/>
                <a:chExt cx="8753040" cy="1346040"/>
              </a:xfrm>
            </p:grpSpPr>
            <p:grpSp>
              <p:nvGrpSpPr>
                <p:cNvPr id="4735" name="Group 23"/>
                <p:cNvGrpSpPr/>
                <p:nvPr/>
              </p:nvGrpSpPr>
              <p:grpSpPr>
                <a:xfrm>
                  <a:off x="419040" y="3892680"/>
                  <a:ext cx="8753040" cy="1346040"/>
                  <a:chOff x="419040" y="3892680"/>
                  <a:chExt cx="8753040" cy="1346040"/>
                </a:xfrm>
              </p:grpSpPr>
              <p:grpSp>
                <p:nvGrpSpPr>
                  <p:cNvPr id="4736" name="Group 24"/>
                  <p:cNvGrpSpPr/>
                  <p:nvPr/>
                </p:nvGrpSpPr>
                <p:grpSpPr>
                  <a:xfrm>
                    <a:off x="419040" y="3892680"/>
                    <a:ext cx="8753040" cy="1346040"/>
                    <a:chOff x="419040" y="3892680"/>
                    <a:chExt cx="8753040" cy="1346040"/>
                  </a:xfrm>
                </p:grpSpPr>
                <p:sp>
                  <p:nvSpPr>
                    <p:cNvPr id="4737" name="AutoShape 25"/>
                    <p:cNvSpPr/>
                    <p:nvPr/>
                  </p:nvSpPr>
                  <p:spPr>
                    <a:xfrm>
                      <a:off x="419040" y="3943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8" name="AutoShape 26"/>
                    <p:cNvSpPr/>
                    <p:nvPr/>
                  </p:nvSpPr>
                  <p:spPr>
                    <a:xfrm>
                      <a:off x="541440" y="4073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9" name="AutoShape 27"/>
                    <p:cNvSpPr/>
                    <p:nvPr/>
                  </p:nvSpPr>
                  <p:spPr>
                    <a:xfrm>
                      <a:off x="2520000" y="3943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40" name="Group 28"/>
                    <p:cNvGrpSpPr/>
                    <p:nvPr/>
                  </p:nvGrpSpPr>
                  <p:grpSpPr>
                    <a:xfrm>
                      <a:off x="878760" y="3892680"/>
                      <a:ext cx="8293320" cy="1346040"/>
                      <a:chOff x="878760" y="3892680"/>
                      <a:chExt cx="8293320" cy="1346040"/>
                    </a:xfrm>
                  </p:grpSpPr>
                  <p:sp>
                    <p:nvSpPr>
                      <p:cNvPr id="4741" name="AutoShape 29"/>
                      <p:cNvSpPr/>
                      <p:nvPr/>
                    </p:nvSpPr>
                    <p:spPr>
                      <a:xfrm>
                        <a:off x="6721200" y="3943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2" name="AutoShape 30"/>
                      <p:cNvSpPr/>
                      <p:nvPr/>
                    </p:nvSpPr>
                    <p:spPr>
                      <a:xfrm>
                        <a:off x="6843960" y="4073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743" name="Group 31"/>
                      <p:cNvGrpSpPr/>
                      <p:nvPr/>
                    </p:nvGrpSpPr>
                    <p:grpSpPr>
                      <a:xfrm>
                        <a:off x="878760" y="3892680"/>
                        <a:ext cx="7834320" cy="1339920"/>
                        <a:chOff x="878760" y="3892680"/>
                        <a:chExt cx="7834320" cy="1339920"/>
                      </a:xfrm>
                    </p:grpSpPr>
                    <p:sp>
                      <p:nvSpPr>
                        <p:cNvPr id="4744" name="AutoShape 32"/>
                        <p:cNvSpPr/>
                        <p:nvPr/>
                      </p:nvSpPr>
                      <p:spPr>
                        <a:xfrm>
                          <a:off x="264168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5" name="AutoShape 33"/>
                        <p:cNvSpPr/>
                        <p:nvPr/>
                      </p:nvSpPr>
                      <p:spPr>
                        <a:xfrm>
                          <a:off x="4620960" y="3937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6" name="AutoShape 34"/>
                        <p:cNvSpPr/>
                        <p:nvPr/>
                      </p:nvSpPr>
                      <p:spPr>
                        <a:xfrm>
                          <a:off x="474300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747" name="Group 35"/>
                        <p:cNvGrpSpPr/>
                        <p:nvPr/>
                      </p:nvGrpSpPr>
                      <p:grpSpPr>
                        <a:xfrm>
                          <a:off x="878760" y="3892680"/>
                          <a:ext cx="7834320" cy="269280"/>
                          <a:chOff x="878760" y="3892680"/>
                          <a:chExt cx="7834320" cy="269280"/>
                        </a:xfrm>
                      </p:grpSpPr>
                      <p:sp>
                        <p:nvSpPr>
                          <p:cNvPr id="4748" name="Text Box 36"/>
                          <p:cNvSpPr/>
                          <p:nvPr/>
                        </p:nvSpPr>
                        <p:spPr>
                          <a:xfrm>
                            <a:off x="5064120" y="3892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49" name="Text Box 37"/>
                          <p:cNvSpPr/>
                          <p:nvPr/>
                        </p:nvSpPr>
                        <p:spPr>
                          <a:xfrm>
                            <a:off x="7181640" y="3892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50" name="Text Box 38"/>
                          <p:cNvSpPr/>
                          <p:nvPr/>
                        </p:nvSpPr>
                        <p:spPr>
                          <a:xfrm>
                            <a:off x="297972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51" name="Text Box 39"/>
                          <p:cNvSpPr/>
                          <p:nvPr/>
                        </p:nvSpPr>
                        <p:spPr>
                          <a:xfrm>
                            <a:off x="87876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752" name="Group 40"/>
                      <p:cNvGrpSpPr/>
                      <p:nvPr/>
                    </p:nvGrpSpPr>
                    <p:grpSpPr>
                      <a:xfrm>
                        <a:off x="4532400" y="4020480"/>
                        <a:ext cx="437760" cy="896400"/>
                        <a:chOff x="4532400" y="4020480"/>
                        <a:chExt cx="437760" cy="896400"/>
                      </a:xfrm>
                    </p:grpSpPr>
                    <p:grpSp>
                      <p:nvGrpSpPr>
                        <p:cNvPr id="4753" name="Group 41"/>
                        <p:cNvGrpSpPr/>
                        <p:nvPr/>
                      </p:nvGrpSpPr>
                      <p:grpSpPr>
                        <a:xfrm>
                          <a:off x="4647240" y="4020480"/>
                          <a:ext cx="322920" cy="896400"/>
                          <a:chOff x="4647240" y="4020480"/>
                          <a:chExt cx="322920" cy="896400"/>
                        </a:xfrm>
                      </p:grpSpPr>
                      <p:grpSp>
                        <p:nvGrpSpPr>
                          <p:cNvPr id="4754" name="Group 42"/>
                          <p:cNvGrpSpPr/>
                          <p:nvPr/>
                        </p:nvGrpSpPr>
                        <p:grpSpPr>
                          <a:xfrm>
                            <a:off x="4647240" y="4075200"/>
                            <a:ext cx="322920" cy="841680"/>
                            <a:chOff x="4647240" y="4075200"/>
                            <a:chExt cx="322920" cy="841680"/>
                          </a:xfrm>
                        </p:grpSpPr>
                        <p:sp>
                          <p:nvSpPr>
                            <p:cNvPr id="4755" name="Rectangle 43"/>
                            <p:cNvSpPr/>
                            <p:nvPr/>
                          </p:nvSpPr>
                          <p:spPr>
                            <a:xfrm rot="18886800">
                              <a:off x="4744080" y="4067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756" name="Group 44"/>
                            <p:cNvGrpSpPr/>
                            <p:nvPr/>
                          </p:nvGrpSpPr>
                          <p:grpSpPr>
                            <a:xfrm>
                              <a:off x="4762440" y="4306320"/>
                              <a:ext cx="207720" cy="610560"/>
                              <a:chOff x="4762440" y="4306320"/>
                              <a:chExt cx="207720" cy="610560"/>
                            </a:xfrm>
                          </p:grpSpPr>
                          <p:grpSp>
                            <p:nvGrpSpPr>
                              <p:cNvPr id="4757" name="Group 45"/>
                              <p:cNvGrpSpPr/>
                              <p:nvPr/>
                            </p:nvGrpSpPr>
                            <p:grpSpPr>
                              <a:xfrm>
                                <a:off x="4762440" y="4690080"/>
                                <a:ext cx="207720" cy="226800"/>
                                <a:chOff x="4762440" y="4690080"/>
                                <a:chExt cx="207720" cy="226800"/>
                              </a:xfrm>
                            </p:grpSpPr>
                            <p:sp>
                              <p:nvSpPr>
                                <p:cNvPr id="4758" name="Rectangle 46"/>
                                <p:cNvSpPr/>
                                <p:nvPr/>
                              </p:nvSpPr>
                              <p:spPr>
                                <a:xfrm rot="2187600">
                                  <a:off x="4805640" y="4707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59" name="Line 47"/>
                                <p:cNvSpPr/>
                                <p:nvPr/>
                              </p:nvSpPr>
                              <p:spPr>
                                <a:xfrm flipH="1">
                                  <a:off x="4855680" y="4763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0" name="Line 48"/>
                                <p:cNvSpPr/>
                                <p:nvPr/>
                              </p:nvSpPr>
                              <p:spPr>
                                <a:xfrm flipH="1">
                                  <a:off x="4766400" y="4697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61" name="Group 49"/>
                              <p:cNvGrpSpPr/>
                              <p:nvPr/>
                            </p:nvGrpSpPr>
                            <p:grpSpPr>
                              <a:xfrm>
                                <a:off x="4843800" y="4306320"/>
                                <a:ext cx="120960" cy="453240"/>
                                <a:chOff x="4843800" y="4306320"/>
                                <a:chExt cx="120960" cy="453240"/>
                              </a:xfrm>
                            </p:grpSpPr>
                            <p:sp>
                              <p:nvSpPr>
                                <p:cNvPr id="4762" name="Rectangle 50"/>
                                <p:cNvSpPr/>
                                <p:nvPr/>
                              </p:nvSpPr>
                              <p:spPr>
                                <a:xfrm>
                                  <a:off x="4843800" y="4306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3" name="Line 51"/>
                                <p:cNvSpPr/>
                                <p:nvPr/>
                              </p:nvSpPr>
                              <p:spPr>
                                <a:xfrm>
                                  <a:off x="4964760" y="4311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4" name="Line 52"/>
                                <p:cNvSpPr/>
                                <p:nvPr/>
                              </p:nvSpPr>
                              <p:spPr>
                                <a:xfrm>
                                  <a:off x="4843800" y="4327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765" name="Line 53"/>
                          <p:cNvSpPr/>
                          <p:nvPr/>
                        </p:nvSpPr>
                        <p:spPr>
                          <a:xfrm flipH="1" flipV="1">
                            <a:off x="4674600" y="4020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66" name="Line 54"/>
                        <p:cNvSpPr/>
                        <p:nvPr/>
                      </p:nvSpPr>
                      <p:spPr>
                        <a:xfrm flipH="1" flipV="1">
                          <a:off x="4532400" y="4060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7" name="Group 55"/>
                      <p:cNvGrpSpPr/>
                      <p:nvPr/>
                    </p:nvGrpSpPr>
                    <p:grpSpPr>
                      <a:xfrm>
                        <a:off x="6699600" y="4245480"/>
                        <a:ext cx="437760" cy="896400"/>
                        <a:chOff x="6699600" y="4245480"/>
                        <a:chExt cx="437760" cy="896400"/>
                      </a:xfrm>
                    </p:grpSpPr>
                    <p:grpSp>
                      <p:nvGrpSpPr>
                        <p:cNvPr id="4768" name="Group 56"/>
                        <p:cNvGrpSpPr/>
                        <p:nvPr/>
                      </p:nvGrpSpPr>
                      <p:grpSpPr>
                        <a:xfrm>
                          <a:off x="6699600" y="4245480"/>
                          <a:ext cx="322920" cy="896400"/>
                          <a:chOff x="6699600" y="4245480"/>
                          <a:chExt cx="322920" cy="896400"/>
                        </a:xfrm>
                      </p:grpSpPr>
                      <p:grpSp>
                        <p:nvGrpSpPr>
                          <p:cNvPr id="4769" name="Group 57"/>
                          <p:cNvGrpSpPr/>
                          <p:nvPr/>
                        </p:nvGrpSpPr>
                        <p:grpSpPr>
                          <a:xfrm>
                            <a:off x="6699600" y="4245480"/>
                            <a:ext cx="322920" cy="841680"/>
                            <a:chOff x="6699600" y="4245480"/>
                            <a:chExt cx="322920" cy="841680"/>
                          </a:xfrm>
                        </p:grpSpPr>
                        <p:sp>
                          <p:nvSpPr>
                            <p:cNvPr id="4770" name="Rectangle 58"/>
                            <p:cNvSpPr/>
                            <p:nvPr/>
                          </p:nvSpPr>
                          <p:spPr>
                            <a:xfrm rot="8086800">
                              <a:off x="6813000" y="4774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771" name="Group 59"/>
                            <p:cNvGrpSpPr/>
                            <p:nvPr/>
                          </p:nvGrpSpPr>
                          <p:grpSpPr>
                            <a:xfrm>
                              <a:off x="6699600" y="4245480"/>
                              <a:ext cx="207720" cy="610560"/>
                              <a:chOff x="6699600" y="4245480"/>
                              <a:chExt cx="207720" cy="610560"/>
                            </a:xfrm>
                          </p:grpSpPr>
                          <p:grpSp>
                            <p:nvGrpSpPr>
                              <p:cNvPr id="4772" name="Group 60"/>
                              <p:cNvGrpSpPr/>
                              <p:nvPr/>
                            </p:nvGrpSpPr>
                            <p:grpSpPr>
                              <a:xfrm>
                                <a:off x="6699600" y="4245480"/>
                                <a:ext cx="207720" cy="226800"/>
                                <a:chOff x="6699600" y="4245480"/>
                                <a:chExt cx="207720" cy="226800"/>
                              </a:xfrm>
                            </p:grpSpPr>
                            <p:sp>
                              <p:nvSpPr>
                                <p:cNvPr id="4773" name="Rectangle 61"/>
                                <p:cNvSpPr/>
                                <p:nvPr/>
                              </p:nvSpPr>
                              <p:spPr>
                                <a:xfrm rot="12987600">
                                  <a:off x="6742800" y="4268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4" name="Line 62"/>
                                <p:cNvSpPr/>
                                <p:nvPr/>
                              </p:nvSpPr>
                              <p:spPr>
                                <a:xfrm flipV="1">
                                  <a:off x="6701040" y="4245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5" name="Line 63"/>
                                <p:cNvSpPr/>
                                <p:nvPr/>
                              </p:nvSpPr>
                              <p:spPr>
                                <a:xfrm flipV="1">
                                  <a:off x="6802200" y="4328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76" name="Group 64"/>
                              <p:cNvGrpSpPr/>
                              <p:nvPr/>
                            </p:nvGrpSpPr>
                            <p:grpSpPr>
                              <a:xfrm>
                                <a:off x="6705000" y="4402800"/>
                                <a:ext cx="120960" cy="453240"/>
                                <a:chOff x="6705000" y="4402800"/>
                                <a:chExt cx="120960" cy="453240"/>
                              </a:xfrm>
                            </p:grpSpPr>
                            <p:sp>
                              <p:nvSpPr>
                                <p:cNvPr id="4777" name="Rectangle 65"/>
                                <p:cNvSpPr/>
                                <p:nvPr/>
                              </p:nvSpPr>
                              <p:spPr>
                                <a:xfrm rot="10800000">
                                  <a:off x="6705000" y="4418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8" name="Line 66"/>
                                <p:cNvSpPr/>
                                <p:nvPr/>
                              </p:nvSpPr>
                              <p:spPr>
                                <a:xfrm flipV="1">
                                  <a:off x="6705000" y="4402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9" name="Line 67"/>
                                <p:cNvSpPr/>
                                <p:nvPr/>
                              </p:nvSpPr>
                              <p:spPr>
                                <a:xfrm>
                                  <a:off x="6825960" y="4434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780" name="Line 68"/>
                          <p:cNvSpPr/>
                          <p:nvPr/>
                        </p:nvSpPr>
                        <p:spPr>
                          <a:xfrm>
                            <a:off x="6704280" y="4843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81" name="Line 69"/>
                        <p:cNvSpPr/>
                        <p:nvPr/>
                      </p:nvSpPr>
                      <p:spPr>
                        <a:xfrm>
                          <a:off x="6846480" y="4828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782" name="Line 70"/>
                    <p:cNvSpPr/>
                    <p:nvPr/>
                  </p:nvSpPr>
                  <p:spPr>
                    <a:xfrm>
                      <a:off x="599040" y="4575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3" name="Text Box 71"/>
                    <p:cNvSpPr/>
                    <p:nvPr/>
                  </p:nvSpPr>
                  <p:spPr>
                    <a:xfrm>
                      <a:off x="1141200" y="4492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4" name="Rectangle 72"/>
                    <p:cNvSpPr/>
                    <p:nvPr/>
                  </p:nvSpPr>
                  <p:spPr>
                    <a:xfrm rot="18886800">
                      <a:off x="2670480" y="4825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5" name="Rectangle 73"/>
                    <p:cNvSpPr/>
                    <p:nvPr/>
                  </p:nvSpPr>
                  <p:spPr>
                    <a:xfrm rot="18886800">
                      <a:off x="2643480" y="4087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6" name="Rectangle 74"/>
                    <p:cNvSpPr/>
                    <p:nvPr/>
                  </p:nvSpPr>
                  <p:spPr>
                    <a:xfrm rot="2740200">
                      <a:off x="2718720" y="4786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87" name="Group 75"/>
                    <p:cNvGrpSpPr/>
                    <p:nvPr/>
                  </p:nvGrpSpPr>
                  <p:grpSpPr>
                    <a:xfrm>
                      <a:off x="2716200" y="4312800"/>
                      <a:ext cx="123480" cy="527040"/>
                      <a:chOff x="2716200" y="4312800"/>
                      <a:chExt cx="123480" cy="527040"/>
                    </a:xfrm>
                  </p:grpSpPr>
                  <p:sp>
                    <p:nvSpPr>
                      <p:cNvPr id="4788" name="Rectangle 76"/>
                      <p:cNvSpPr/>
                      <p:nvPr/>
                    </p:nvSpPr>
                    <p:spPr>
                      <a:xfrm>
                        <a:off x="2716200" y="4312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Line 77"/>
                      <p:cNvSpPr/>
                      <p:nvPr/>
                    </p:nvSpPr>
                    <p:spPr>
                      <a:xfrm>
                        <a:off x="2839680" y="4318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0" name="Line 78"/>
                      <p:cNvSpPr/>
                      <p:nvPr/>
                    </p:nvSpPr>
                    <p:spPr>
                      <a:xfrm>
                        <a:off x="2716200" y="4337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91" name="Line 79"/>
                  <p:cNvSpPr/>
                  <p:nvPr/>
                </p:nvSpPr>
                <p:spPr>
                  <a:xfrm>
                    <a:off x="2530440" y="3976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Line 80"/>
                  <p:cNvSpPr/>
                  <p:nvPr/>
                </p:nvSpPr>
                <p:spPr>
                  <a:xfrm>
                    <a:off x="2468520" y="4084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3" name="Line 81"/>
                <p:cNvSpPr/>
                <p:nvPr/>
              </p:nvSpPr>
              <p:spPr>
                <a:xfrm flipH="1">
                  <a:off x="2759400" y="4827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4" name="Line 82"/>
              <p:cNvSpPr/>
              <p:nvPr/>
            </p:nvSpPr>
            <p:spPr>
              <a:xfrm flipH="1">
                <a:off x="2697480" y="4822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5" name="Text Box 83"/>
          <p:cNvSpPr/>
          <p:nvPr/>
        </p:nvSpPr>
        <p:spPr>
          <a:xfrm>
            <a:off x="669960" y="41655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nifest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Text Box 84"/>
          <p:cNvSpPr/>
          <p:nvPr/>
        </p:nvSpPr>
        <p:spPr>
          <a:xfrm>
            <a:off x="2843280" y="415296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od’s will was for US to expand its borders to west co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Text Box 85"/>
          <p:cNvSpPr/>
          <p:nvPr/>
        </p:nvSpPr>
        <p:spPr>
          <a:xfrm>
            <a:off x="723960" y="4600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Text Box 86"/>
          <p:cNvSpPr/>
          <p:nvPr/>
        </p:nvSpPr>
        <p:spPr>
          <a:xfrm>
            <a:off x="5016600" y="4083120"/>
            <a:ext cx="17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he man thought his destiny was to own the whole 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9" name="Group 109"/>
          <p:cNvGrpSpPr/>
          <p:nvPr/>
        </p:nvGrpSpPr>
        <p:grpSpPr>
          <a:xfrm>
            <a:off x="4938840" y="4181400"/>
            <a:ext cx="4458960" cy="2242440"/>
            <a:chOff x="4938840" y="4181400"/>
            <a:chExt cx="4458960" cy="2242440"/>
          </a:xfrm>
        </p:grpSpPr>
        <p:grpSp>
          <p:nvGrpSpPr>
            <p:cNvPr id="4800" name="Group 91"/>
            <p:cNvGrpSpPr/>
            <p:nvPr/>
          </p:nvGrpSpPr>
          <p:grpSpPr>
            <a:xfrm>
              <a:off x="7059600" y="4181400"/>
              <a:ext cx="2338200" cy="887400"/>
              <a:chOff x="7059600" y="4181400"/>
              <a:chExt cx="2338200" cy="887400"/>
            </a:xfrm>
          </p:grpSpPr>
          <p:grpSp>
            <p:nvGrpSpPr>
              <p:cNvPr id="4801" name="Group 92"/>
              <p:cNvGrpSpPr/>
              <p:nvPr/>
            </p:nvGrpSpPr>
            <p:grpSpPr>
              <a:xfrm>
                <a:off x="7059600" y="4192560"/>
                <a:ext cx="2338200" cy="876240"/>
                <a:chOff x="7059600" y="4192560"/>
                <a:chExt cx="2338200" cy="876240"/>
              </a:xfrm>
            </p:grpSpPr>
            <p:sp>
              <p:nvSpPr>
                <p:cNvPr id="4802" name="Rectangle 93"/>
                <p:cNvSpPr/>
                <p:nvPr/>
              </p:nvSpPr>
              <p:spPr>
                <a:xfrm>
                  <a:off x="7059600" y="4192560"/>
                  <a:ext cx="1385640" cy="87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03" name="Picture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59600" y="4192560"/>
                  <a:ext cx="2338200" cy="876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04" name="Group 95"/>
              <p:cNvGrpSpPr/>
              <p:nvPr/>
            </p:nvGrpSpPr>
            <p:grpSpPr>
              <a:xfrm>
                <a:off x="7861320" y="4181400"/>
                <a:ext cx="734040" cy="464400"/>
                <a:chOff x="7861320" y="4181400"/>
                <a:chExt cx="734040" cy="464400"/>
              </a:xfrm>
            </p:grpSpPr>
            <p:grpSp>
              <p:nvGrpSpPr>
                <p:cNvPr id="4805" name="Group 96"/>
                <p:cNvGrpSpPr/>
                <p:nvPr/>
              </p:nvGrpSpPr>
              <p:grpSpPr>
                <a:xfrm>
                  <a:off x="8380080" y="4181400"/>
                  <a:ext cx="215280" cy="150120"/>
                  <a:chOff x="8380080" y="4181400"/>
                  <a:chExt cx="215280" cy="150120"/>
                </a:xfrm>
              </p:grpSpPr>
              <p:sp>
                <p:nvSpPr>
                  <p:cNvPr id="4806" name="Freeform 97"/>
                  <p:cNvSpPr/>
                  <p:nvPr/>
                </p:nvSpPr>
                <p:spPr>
                  <a:xfrm>
                    <a:off x="8380080" y="4181400"/>
                    <a:ext cx="172800" cy="141120"/>
                  </a:xfrm>
                  <a:prstGeom prst="pie">
                    <a:avLst/>
                  </a:pr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Freeform 98"/>
                  <p:cNvSpPr/>
                  <p:nvPr/>
                </p:nvSpPr>
                <p:spPr>
                  <a:xfrm>
                    <a:off x="8390880" y="4192200"/>
                    <a:ext cx="172800" cy="139320"/>
                  </a:xfrm>
                  <a:prstGeom prst="pie">
                    <a:avLst/>
                  </a:prstGeom>
                  <a:noFill/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Line 99"/>
                  <p:cNvSpPr/>
                  <p:nvPr/>
                </p:nvSpPr>
                <p:spPr>
                  <a:xfrm>
                    <a:off x="8510040" y="4267080"/>
                    <a:ext cx="85320" cy="5508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9" name="Group 100"/>
                <p:cNvGrpSpPr/>
                <p:nvPr/>
              </p:nvGrpSpPr>
              <p:grpSpPr>
                <a:xfrm>
                  <a:off x="7861320" y="4322520"/>
                  <a:ext cx="605880" cy="138960"/>
                  <a:chOff x="7861320" y="4322520"/>
                  <a:chExt cx="605880" cy="138960"/>
                </a:xfrm>
              </p:grpSpPr>
              <p:sp>
                <p:nvSpPr>
                  <p:cNvPr id="4810" name="Freeform 101"/>
                  <p:cNvSpPr/>
                  <p:nvPr/>
                </p:nvSpPr>
                <p:spPr>
                  <a:xfrm>
                    <a:off x="7861320" y="4322520"/>
                    <a:ext cx="161640" cy="128160"/>
                  </a:xfrm>
                  <a:prstGeom prst="pie">
                    <a:avLst/>
                  </a:pr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Freeform 102"/>
                  <p:cNvSpPr/>
                  <p:nvPr/>
                </p:nvSpPr>
                <p:spPr>
                  <a:xfrm>
                    <a:off x="7872120" y="4331520"/>
                    <a:ext cx="161640" cy="129960"/>
                  </a:xfrm>
                  <a:prstGeom prst="pie">
                    <a:avLst/>
                  </a:prstGeom>
                  <a:noFill/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Line 103"/>
                  <p:cNvSpPr/>
                  <p:nvPr/>
                </p:nvSpPr>
                <p:spPr>
                  <a:xfrm>
                    <a:off x="8011800" y="4385520"/>
                    <a:ext cx="455400" cy="2196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3" name="Group 104"/>
                <p:cNvGrpSpPr/>
                <p:nvPr/>
              </p:nvGrpSpPr>
              <p:grpSpPr>
                <a:xfrm>
                  <a:off x="7926120" y="4505040"/>
                  <a:ext cx="496080" cy="140760"/>
                  <a:chOff x="7926120" y="4505040"/>
                  <a:chExt cx="496080" cy="140760"/>
                </a:xfrm>
              </p:grpSpPr>
              <p:sp>
                <p:nvSpPr>
                  <p:cNvPr id="4814" name="Freeform 105"/>
                  <p:cNvSpPr/>
                  <p:nvPr/>
                </p:nvSpPr>
                <p:spPr>
                  <a:xfrm>
                    <a:off x="7926120" y="4505040"/>
                    <a:ext cx="172800" cy="129960"/>
                  </a:xfrm>
                  <a:prstGeom prst="pie">
                    <a:avLst/>
                  </a:pr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Freeform 106"/>
                  <p:cNvSpPr/>
                  <p:nvPr/>
                </p:nvSpPr>
                <p:spPr>
                  <a:xfrm>
                    <a:off x="7936920" y="4515840"/>
                    <a:ext cx="172440" cy="129960"/>
                  </a:xfrm>
                  <a:prstGeom prst="pie">
                    <a:avLst/>
                  </a:prstGeom>
                  <a:noFill/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Line 107"/>
                  <p:cNvSpPr/>
                  <p:nvPr/>
                </p:nvSpPr>
                <p:spPr>
                  <a:xfrm flipV="1">
                    <a:off x="8076600" y="4515480"/>
                    <a:ext cx="345600" cy="536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17" name="Group 108"/>
            <p:cNvGrpSpPr/>
            <p:nvPr/>
          </p:nvGrpSpPr>
          <p:grpSpPr>
            <a:xfrm>
              <a:off x="4938840" y="4855680"/>
              <a:ext cx="3900240" cy="1568160"/>
              <a:chOff x="4938840" y="4855680"/>
              <a:chExt cx="3900240" cy="1568160"/>
            </a:xfrm>
          </p:grpSpPr>
          <p:sp>
            <p:nvSpPr>
              <p:cNvPr id="4818" name="Text Box 89"/>
              <p:cNvSpPr/>
              <p:nvPr/>
            </p:nvSpPr>
            <p:spPr>
              <a:xfrm>
                <a:off x="4938840" y="5964120"/>
                <a:ext cx="390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BETTER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 LINCing Pi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Line 90"/>
              <p:cNvSpPr/>
              <p:nvPr/>
            </p:nvSpPr>
            <p:spPr>
              <a:xfrm flipV="1">
                <a:off x="6684840" y="4855680"/>
                <a:ext cx="782640" cy="1087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AutoShape 2"/>
          <p:cNvSpPr/>
          <p:nvPr/>
        </p:nvSpPr>
        <p:spPr>
          <a:xfrm>
            <a:off x="3125880" y="2965320"/>
            <a:ext cx="7176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10b213"/>
                </a:solidFill>
                <a:latin typeface="Comic Sans MS"/>
              </a:rPr>
              <a:t>LINC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PlaceHolder 2"/>
          <p:cNvSpPr>
            <a:spLocks noGrp="1"/>
          </p:cNvSpPr>
          <p:nvPr>
            <p:ph/>
          </p:nvPr>
        </p:nvSpPr>
        <p:spPr>
          <a:xfrm>
            <a:off x="57132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an element related to the Reminding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elements related to essential parts of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Rectangle 5"/>
          <p:cNvSpPr/>
          <p:nvPr/>
        </p:nvSpPr>
        <p:spPr>
          <a:xfrm>
            <a:off x="29682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Rectangle 6"/>
          <p:cNvSpPr/>
          <p:nvPr/>
        </p:nvSpPr>
        <p:spPr>
          <a:xfrm>
            <a:off x="33570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Rectangle 7"/>
          <p:cNvSpPr/>
          <p:nvPr/>
        </p:nvSpPr>
        <p:spPr>
          <a:xfrm>
            <a:off x="37476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Rectangle 8"/>
          <p:cNvSpPr/>
          <p:nvPr/>
        </p:nvSpPr>
        <p:spPr>
          <a:xfrm>
            <a:off x="41364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Rectangle 9"/>
          <p:cNvSpPr/>
          <p:nvPr/>
        </p:nvSpPr>
        <p:spPr>
          <a:xfrm>
            <a:off x="56955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Rectangle 10"/>
          <p:cNvSpPr/>
          <p:nvPr/>
        </p:nvSpPr>
        <p:spPr>
          <a:xfrm>
            <a:off x="60843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Rectangle 11"/>
          <p:cNvSpPr/>
          <p:nvPr/>
        </p:nvSpPr>
        <p:spPr>
          <a:xfrm>
            <a:off x="64749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Rectangle 12"/>
          <p:cNvSpPr/>
          <p:nvPr/>
        </p:nvSpPr>
        <p:spPr>
          <a:xfrm>
            <a:off x="7914240" y="2195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Rectangle 13"/>
          <p:cNvSpPr/>
          <p:nvPr/>
        </p:nvSpPr>
        <p:spPr>
          <a:xfrm>
            <a:off x="41360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Rectangle 14"/>
          <p:cNvSpPr/>
          <p:nvPr/>
        </p:nvSpPr>
        <p:spPr>
          <a:xfrm>
            <a:off x="49154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Rectangle 15"/>
          <p:cNvSpPr/>
          <p:nvPr/>
        </p:nvSpPr>
        <p:spPr>
          <a:xfrm>
            <a:off x="53042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Rectangle 16"/>
          <p:cNvSpPr/>
          <p:nvPr/>
        </p:nvSpPr>
        <p:spPr>
          <a:xfrm>
            <a:off x="56948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Rectangle 17"/>
          <p:cNvSpPr/>
          <p:nvPr/>
        </p:nvSpPr>
        <p:spPr>
          <a:xfrm>
            <a:off x="608400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Rectangle 18"/>
          <p:cNvSpPr/>
          <p:nvPr/>
        </p:nvSpPr>
        <p:spPr>
          <a:xfrm>
            <a:off x="3770280" y="4584600"/>
            <a:ext cx="63360" cy="101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7" name="Group 19"/>
          <p:cNvGrpSpPr/>
          <p:nvPr/>
        </p:nvGrpSpPr>
        <p:grpSpPr>
          <a:xfrm>
            <a:off x="419040" y="3892680"/>
            <a:ext cx="8753040" cy="1812960"/>
            <a:chOff x="419040" y="3892680"/>
            <a:chExt cx="8753040" cy="1812960"/>
          </a:xfrm>
        </p:grpSpPr>
        <p:sp>
          <p:nvSpPr>
            <p:cNvPr id="4838" name="Text Box 20"/>
            <p:cNvSpPr/>
            <p:nvPr/>
          </p:nvSpPr>
          <p:spPr>
            <a:xfrm>
              <a:off x="774720" y="5313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9" name="Group 21"/>
            <p:cNvGrpSpPr/>
            <p:nvPr/>
          </p:nvGrpSpPr>
          <p:grpSpPr>
            <a:xfrm>
              <a:off x="419040" y="3892680"/>
              <a:ext cx="8753040" cy="1346040"/>
              <a:chOff x="419040" y="3892680"/>
              <a:chExt cx="8753040" cy="1346040"/>
            </a:xfrm>
          </p:grpSpPr>
          <p:grpSp>
            <p:nvGrpSpPr>
              <p:cNvPr id="4840" name="Group 22"/>
              <p:cNvGrpSpPr/>
              <p:nvPr/>
            </p:nvGrpSpPr>
            <p:grpSpPr>
              <a:xfrm>
                <a:off x="419040" y="3892680"/>
                <a:ext cx="8753040" cy="1346040"/>
                <a:chOff x="419040" y="3892680"/>
                <a:chExt cx="8753040" cy="1346040"/>
              </a:xfrm>
            </p:grpSpPr>
            <p:grpSp>
              <p:nvGrpSpPr>
                <p:cNvPr id="4841" name="Group 23"/>
                <p:cNvGrpSpPr/>
                <p:nvPr/>
              </p:nvGrpSpPr>
              <p:grpSpPr>
                <a:xfrm>
                  <a:off x="419040" y="3892680"/>
                  <a:ext cx="8753040" cy="1346040"/>
                  <a:chOff x="419040" y="3892680"/>
                  <a:chExt cx="8753040" cy="1346040"/>
                </a:xfrm>
              </p:grpSpPr>
              <p:grpSp>
                <p:nvGrpSpPr>
                  <p:cNvPr id="4842" name="Group 24"/>
                  <p:cNvGrpSpPr/>
                  <p:nvPr/>
                </p:nvGrpSpPr>
                <p:grpSpPr>
                  <a:xfrm>
                    <a:off x="419040" y="3892680"/>
                    <a:ext cx="8753040" cy="1346040"/>
                    <a:chOff x="419040" y="3892680"/>
                    <a:chExt cx="8753040" cy="1346040"/>
                  </a:xfrm>
                </p:grpSpPr>
                <p:sp>
                  <p:nvSpPr>
                    <p:cNvPr id="4843" name="AutoShape 25"/>
                    <p:cNvSpPr/>
                    <p:nvPr/>
                  </p:nvSpPr>
                  <p:spPr>
                    <a:xfrm>
                      <a:off x="419040" y="3943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4" name="AutoShape 26"/>
                    <p:cNvSpPr/>
                    <p:nvPr/>
                  </p:nvSpPr>
                  <p:spPr>
                    <a:xfrm>
                      <a:off x="541440" y="4073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AutoShape 27"/>
                    <p:cNvSpPr/>
                    <p:nvPr/>
                  </p:nvSpPr>
                  <p:spPr>
                    <a:xfrm>
                      <a:off x="2520000" y="3943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46" name="Group 28"/>
                    <p:cNvGrpSpPr/>
                    <p:nvPr/>
                  </p:nvGrpSpPr>
                  <p:grpSpPr>
                    <a:xfrm>
                      <a:off x="878760" y="3892680"/>
                      <a:ext cx="8293320" cy="1346040"/>
                      <a:chOff x="878760" y="3892680"/>
                      <a:chExt cx="8293320" cy="1346040"/>
                    </a:xfrm>
                  </p:grpSpPr>
                  <p:sp>
                    <p:nvSpPr>
                      <p:cNvPr id="4847" name="AutoShape 29"/>
                      <p:cNvSpPr/>
                      <p:nvPr/>
                    </p:nvSpPr>
                    <p:spPr>
                      <a:xfrm>
                        <a:off x="6721200" y="3943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8" name="AutoShape 30"/>
                      <p:cNvSpPr/>
                      <p:nvPr/>
                    </p:nvSpPr>
                    <p:spPr>
                      <a:xfrm>
                        <a:off x="6843960" y="4073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849" name="Group 31"/>
                      <p:cNvGrpSpPr/>
                      <p:nvPr/>
                    </p:nvGrpSpPr>
                    <p:grpSpPr>
                      <a:xfrm>
                        <a:off x="878760" y="3892680"/>
                        <a:ext cx="7834320" cy="1339920"/>
                        <a:chOff x="878760" y="3892680"/>
                        <a:chExt cx="7834320" cy="1339920"/>
                      </a:xfrm>
                    </p:grpSpPr>
                    <p:sp>
                      <p:nvSpPr>
                        <p:cNvPr id="4850" name="AutoShape 32"/>
                        <p:cNvSpPr/>
                        <p:nvPr/>
                      </p:nvSpPr>
                      <p:spPr>
                        <a:xfrm>
                          <a:off x="264168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51" name="AutoShape 33"/>
                        <p:cNvSpPr/>
                        <p:nvPr/>
                      </p:nvSpPr>
                      <p:spPr>
                        <a:xfrm>
                          <a:off x="4620960" y="3937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52" name="AutoShape 34"/>
                        <p:cNvSpPr/>
                        <p:nvPr/>
                      </p:nvSpPr>
                      <p:spPr>
                        <a:xfrm>
                          <a:off x="474300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853" name="Group 35"/>
                        <p:cNvGrpSpPr/>
                        <p:nvPr/>
                      </p:nvGrpSpPr>
                      <p:grpSpPr>
                        <a:xfrm>
                          <a:off x="878760" y="3892680"/>
                          <a:ext cx="7834320" cy="269280"/>
                          <a:chOff x="878760" y="3892680"/>
                          <a:chExt cx="7834320" cy="269280"/>
                        </a:xfrm>
                      </p:grpSpPr>
                      <p:sp>
                        <p:nvSpPr>
                          <p:cNvPr id="4854" name="Text Box 36"/>
                          <p:cNvSpPr/>
                          <p:nvPr/>
                        </p:nvSpPr>
                        <p:spPr>
                          <a:xfrm>
                            <a:off x="5064120" y="3892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5" name="Text Box 37"/>
                          <p:cNvSpPr/>
                          <p:nvPr/>
                        </p:nvSpPr>
                        <p:spPr>
                          <a:xfrm>
                            <a:off x="7181640" y="3892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6" name="Text Box 38"/>
                          <p:cNvSpPr/>
                          <p:nvPr/>
                        </p:nvSpPr>
                        <p:spPr>
                          <a:xfrm>
                            <a:off x="297972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7" name="Text Box 39"/>
                          <p:cNvSpPr/>
                          <p:nvPr/>
                        </p:nvSpPr>
                        <p:spPr>
                          <a:xfrm>
                            <a:off x="87876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58" name="Group 40"/>
                      <p:cNvGrpSpPr/>
                      <p:nvPr/>
                    </p:nvGrpSpPr>
                    <p:grpSpPr>
                      <a:xfrm>
                        <a:off x="4532400" y="4020480"/>
                        <a:ext cx="437760" cy="896400"/>
                        <a:chOff x="4532400" y="4020480"/>
                        <a:chExt cx="437760" cy="896400"/>
                      </a:xfrm>
                    </p:grpSpPr>
                    <p:grpSp>
                      <p:nvGrpSpPr>
                        <p:cNvPr id="4859" name="Group 41"/>
                        <p:cNvGrpSpPr/>
                        <p:nvPr/>
                      </p:nvGrpSpPr>
                      <p:grpSpPr>
                        <a:xfrm>
                          <a:off x="4647240" y="4020480"/>
                          <a:ext cx="322920" cy="896400"/>
                          <a:chOff x="4647240" y="4020480"/>
                          <a:chExt cx="322920" cy="896400"/>
                        </a:xfrm>
                      </p:grpSpPr>
                      <p:grpSp>
                        <p:nvGrpSpPr>
                          <p:cNvPr id="4860" name="Group 42"/>
                          <p:cNvGrpSpPr/>
                          <p:nvPr/>
                        </p:nvGrpSpPr>
                        <p:grpSpPr>
                          <a:xfrm>
                            <a:off x="4647240" y="4075200"/>
                            <a:ext cx="322920" cy="841680"/>
                            <a:chOff x="4647240" y="4075200"/>
                            <a:chExt cx="322920" cy="841680"/>
                          </a:xfrm>
                        </p:grpSpPr>
                        <p:sp>
                          <p:nvSpPr>
                            <p:cNvPr id="4861" name="Rectangle 43"/>
                            <p:cNvSpPr/>
                            <p:nvPr/>
                          </p:nvSpPr>
                          <p:spPr>
                            <a:xfrm rot="18886800">
                              <a:off x="4744080" y="4067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862" name="Group 44"/>
                            <p:cNvGrpSpPr/>
                            <p:nvPr/>
                          </p:nvGrpSpPr>
                          <p:grpSpPr>
                            <a:xfrm>
                              <a:off x="4762440" y="4306320"/>
                              <a:ext cx="207720" cy="610560"/>
                              <a:chOff x="4762440" y="4306320"/>
                              <a:chExt cx="207720" cy="610560"/>
                            </a:xfrm>
                          </p:grpSpPr>
                          <p:grpSp>
                            <p:nvGrpSpPr>
                              <p:cNvPr id="4863" name="Group 45"/>
                              <p:cNvGrpSpPr/>
                              <p:nvPr/>
                            </p:nvGrpSpPr>
                            <p:grpSpPr>
                              <a:xfrm>
                                <a:off x="4762440" y="4690080"/>
                                <a:ext cx="207720" cy="226800"/>
                                <a:chOff x="4762440" y="4690080"/>
                                <a:chExt cx="207720" cy="226800"/>
                              </a:xfrm>
                            </p:grpSpPr>
                            <p:sp>
                              <p:nvSpPr>
                                <p:cNvPr id="4864" name="Rectangle 46"/>
                                <p:cNvSpPr/>
                                <p:nvPr/>
                              </p:nvSpPr>
                              <p:spPr>
                                <a:xfrm rot="2187600">
                                  <a:off x="4805640" y="4707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5" name="Line 47"/>
                                <p:cNvSpPr/>
                                <p:nvPr/>
                              </p:nvSpPr>
                              <p:spPr>
                                <a:xfrm flipH="1">
                                  <a:off x="4855680" y="4763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6" name="Line 48"/>
                                <p:cNvSpPr/>
                                <p:nvPr/>
                              </p:nvSpPr>
                              <p:spPr>
                                <a:xfrm flipH="1">
                                  <a:off x="4766400" y="4697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67" name="Group 49"/>
                              <p:cNvGrpSpPr/>
                              <p:nvPr/>
                            </p:nvGrpSpPr>
                            <p:grpSpPr>
                              <a:xfrm>
                                <a:off x="4843800" y="4306320"/>
                                <a:ext cx="120960" cy="453240"/>
                                <a:chOff x="4843800" y="4306320"/>
                                <a:chExt cx="120960" cy="453240"/>
                              </a:xfrm>
                            </p:grpSpPr>
                            <p:sp>
                              <p:nvSpPr>
                                <p:cNvPr id="4868" name="Rectangle 50"/>
                                <p:cNvSpPr/>
                                <p:nvPr/>
                              </p:nvSpPr>
                              <p:spPr>
                                <a:xfrm>
                                  <a:off x="4843800" y="4306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9" name="Line 51"/>
                                <p:cNvSpPr/>
                                <p:nvPr/>
                              </p:nvSpPr>
                              <p:spPr>
                                <a:xfrm>
                                  <a:off x="4964760" y="4311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70" name="Line 52"/>
                                <p:cNvSpPr/>
                                <p:nvPr/>
                              </p:nvSpPr>
                              <p:spPr>
                                <a:xfrm>
                                  <a:off x="4843800" y="4327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871" name="Line 53"/>
                          <p:cNvSpPr/>
                          <p:nvPr/>
                        </p:nvSpPr>
                        <p:spPr>
                          <a:xfrm flipH="1" flipV="1">
                            <a:off x="4674600" y="4020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872" name="Line 54"/>
                        <p:cNvSpPr/>
                        <p:nvPr/>
                      </p:nvSpPr>
                      <p:spPr>
                        <a:xfrm flipH="1" flipV="1">
                          <a:off x="4532400" y="4060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73" name="Group 55"/>
                      <p:cNvGrpSpPr/>
                      <p:nvPr/>
                    </p:nvGrpSpPr>
                    <p:grpSpPr>
                      <a:xfrm>
                        <a:off x="6699600" y="4245480"/>
                        <a:ext cx="437760" cy="896400"/>
                        <a:chOff x="6699600" y="4245480"/>
                        <a:chExt cx="437760" cy="896400"/>
                      </a:xfrm>
                    </p:grpSpPr>
                    <p:grpSp>
                      <p:nvGrpSpPr>
                        <p:cNvPr id="4874" name="Group 56"/>
                        <p:cNvGrpSpPr/>
                        <p:nvPr/>
                      </p:nvGrpSpPr>
                      <p:grpSpPr>
                        <a:xfrm>
                          <a:off x="6699600" y="4245480"/>
                          <a:ext cx="322920" cy="896400"/>
                          <a:chOff x="6699600" y="4245480"/>
                          <a:chExt cx="322920" cy="896400"/>
                        </a:xfrm>
                      </p:grpSpPr>
                      <p:grpSp>
                        <p:nvGrpSpPr>
                          <p:cNvPr id="4875" name="Group 57"/>
                          <p:cNvGrpSpPr/>
                          <p:nvPr/>
                        </p:nvGrpSpPr>
                        <p:grpSpPr>
                          <a:xfrm>
                            <a:off x="6699600" y="4245480"/>
                            <a:ext cx="322920" cy="841680"/>
                            <a:chOff x="6699600" y="4245480"/>
                            <a:chExt cx="322920" cy="841680"/>
                          </a:xfrm>
                        </p:grpSpPr>
                        <p:sp>
                          <p:nvSpPr>
                            <p:cNvPr id="4876" name="Rectangle 58"/>
                            <p:cNvSpPr/>
                            <p:nvPr/>
                          </p:nvSpPr>
                          <p:spPr>
                            <a:xfrm rot="8086800">
                              <a:off x="6813000" y="4774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877" name="Group 59"/>
                            <p:cNvGrpSpPr/>
                            <p:nvPr/>
                          </p:nvGrpSpPr>
                          <p:grpSpPr>
                            <a:xfrm>
                              <a:off x="6699600" y="4245480"/>
                              <a:ext cx="207720" cy="610560"/>
                              <a:chOff x="6699600" y="4245480"/>
                              <a:chExt cx="207720" cy="610560"/>
                            </a:xfrm>
                          </p:grpSpPr>
                          <p:grpSp>
                            <p:nvGrpSpPr>
                              <p:cNvPr id="4878" name="Group 60"/>
                              <p:cNvGrpSpPr/>
                              <p:nvPr/>
                            </p:nvGrpSpPr>
                            <p:grpSpPr>
                              <a:xfrm>
                                <a:off x="6699600" y="4245480"/>
                                <a:ext cx="207720" cy="226800"/>
                                <a:chOff x="6699600" y="4245480"/>
                                <a:chExt cx="207720" cy="226800"/>
                              </a:xfrm>
                            </p:grpSpPr>
                            <p:sp>
                              <p:nvSpPr>
                                <p:cNvPr id="4879" name="Rectangle 61"/>
                                <p:cNvSpPr/>
                                <p:nvPr/>
                              </p:nvSpPr>
                              <p:spPr>
                                <a:xfrm rot="12987600">
                                  <a:off x="6742800" y="4268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0" name="Line 62"/>
                                <p:cNvSpPr/>
                                <p:nvPr/>
                              </p:nvSpPr>
                              <p:spPr>
                                <a:xfrm flipV="1">
                                  <a:off x="6701040" y="4245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1" name="Line 63"/>
                                <p:cNvSpPr/>
                                <p:nvPr/>
                              </p:nvSpPr>
                              <p:spPr>
                                <a:xfrm flipV="1">
                                  <a:off x="6802200" y="4328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82" name="Group 64"/>
                              <p:cNvGrpSpPr/>
                              <p:nvPr/>
                            </p:nvGrpSpPr>
                            <p:grpSpPr>
                              <a:xfrm>
                                <a:off x="6705000" y="4402800"/>
                                <a:ext cx="120960" cy="453240"/>
                                <a:chOff x="6705000" y="4402800"/>
                                <a:chExt cx="120960" cy="453240"/>
                              </a:xfrm>
                            </p:grpSpPr>
                            <p:sp>
                              <p:nvSpPr>
                                <p:cNvPr id="4883" name="Rectangle 65"/>
                                <p:cNvSpPr/>
                                <p:nvPr/>
                              </p:nvSpPr>
                              <p:spPr>
                                <a:xfrm rot="10800000">
                                  <a:off x="6705000" y="4418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4" name="Line 66"/>
                                <p:cNvSpPr/>
                                <p:nvPr/>
                              </p:nvSpPr>
                              <p:spPr>
                                <a:xfrm flipV="1">
                                  <a:off x="6705000" y="4402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5" name="Line 67"/>
                                <p:cNvSpPr/>
                                <p:nvPr/>
                              </p:nvSpPr>
                              <p:spPr>
                                <a:xfrm>
                                  <a:off x="6825960" y="4434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886" name="Line 68"/>
                          <p:cNvSpPr/>
                          <p:nvPr/>
                        </p:nvSpPr>
                        <p:spPr>
                          <a:xfrm>
                            <a:off x="6704280" y="4843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887" name="Line 69"/>
                        <p:cNvSpPr/>
                        <p:nvPr/>
                      </p:nvSpPr>
                      <p:spPr>
                        <a:xfrm>
                          <a:off x="6846480" y="4828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88" name="Line 70"/>
                    <p:cNvSpPr/>
                    <p:nvPr/>
                  </p:nvSpPr>
                  <p:spPr>
                    <a:xfrm>
                      <a:off x="599040" y="4575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9" name="Text Box 71"/>
                    <p:cNvSpPr/>
                    <p:nvPr/>
                  </p:nvSpPr>
                  <p:spPr>
                    <a:xfrm>
                      <a:off x="1141200" y="4492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0" name="Rectangle 72"/>
                    <p:cNvSpPr/>
                    <p:nvPr/>
                  </p:nvSpPr>
                  <p:spPr>
                    <a:xfrm rot="18886800">
                      <a:off x="2670480" y="4825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1" name="Rectangle 73"/>
                    <p:cNvSpPr/>
                    <p:nvPr/>
                  </p:nvSpPr>
                  <p:spPr>
                    <a:xfrm rot="18886800">
                      <a:off x="2643480" y="4087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2" name="Rectangle 74"/>
                    <p:cNvSpPr/>
                    <p:nvPr/>
                  </p:nvSpPr>
                  <p:spPr>
                    <a:xfrm rot="2740200">
                      <a:off x="2718720" y="4786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93" name="Group 75"/>
                    <p:cNvGrpSpPr/>
                    <p:nvPr/>
                  </p:nvGrpSpPr>
                  <p:grpSpPr>
                    <a:xfrm>
                      <a:off x="2716200" y="4312800"/>
                      <a:ext cx="123480" cy="527040"/>
                      <a:chOff x="2716200" y="4312800"/>
                      <a:chExt cx="123480" cy="527040"/>
                    </a:xfrm>
                  </p:grpSpPr>
                  <p:sp>
                    <p:nvSpPr>
                      <p:cNvPr id="4894" name="Rectangle 76"/>
                      <p:cNvSpPr/>
                      <p:nvPr/>
                    </p:nvSpPr>
                    <p:spPr>
                      <a:xfrm>
                        <a:off x="2716200" y="4312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5" name="Line 77"/>
                      <p:cNvSpPr/>
                      <p:nvPr/>
                    </p:nvSpPr>
                    <p:spPr>
                      <a:xfrm>
                        <a:off x="2839680" y="4318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6" name="Line 78"/>
                      <p:cNvSpPr/>
                      <p:nvPr/>
                    </p:nvSpPr>
                    <p:spPr>
                      <a:xfrm>
                        <a:off x="2716200" y="4337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897" name="Line 79"/>
                  <p:cNvSpPr/>
                  <p:nvPr/>
                </p:nvSpPr>
                <p:spPr>
                  <a:xfrm>
                    <a:off x="2530440" y="3976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Line 80"/>
                  <p:cNvSpPr/>
                  <p:nvPr/>
                </p:nvSpPr>
                <p:spPr>
                  <a:xfrm>
                    <a:off x="2468520" y="4084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99" name="Line 81"/>
                <p:cNvSpPr/>
                <p:nvPr/>
              </p:nvSpPr>
              <p:spPr>
                <a:xfrm flipH="1">
                  <a:off x="2759400" y="4827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0" name="Line 82"/>
              <p:cNvSpPr/>
              <p:nvPr/>
            </p:nvSpPr>
            <p:spPr>
              <a:xfrm flipH="1">
                <a:off x="2697480" y="4822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1" name="Text Box 83"/>
          <p:cNvSpPr/>
          <p:nvPr/>
        </p:nvSpPr>
        <p:spPr>
          <a:xfrm>
            <a:off x="669960" y="41655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nifest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Text Box 84"/>
          <p:cNvSpPr/>
          <p:nvPr/>
        </p:nvSpPr>
        <p:spPr>
          <a:xfrm>
            <a:off x="2843280" y="415296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od’s will was for US to expand its borders to west co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Text Box 85"/>
          <p:cNvSpPr/>
          <p:nvPr/>
        </p:nvSpPr>
        <p:spPr>
          <a:xfrm>
            <a:off x="723960" y="4600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Text Box 86"/>
          <p:cNvSpPr/>
          <p:nvPr/>
        </p:nvSpPr>
        <p:spPr>
          <a:xfrm>
            <a:off x="5016600" y="4083120"/>
            <a:ext cx="17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he man thought his destiny was to own the whole 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5" name="Group 144"/>
          <p:cNvGrpSpPr/>
          <p:nvPr/>
        </p:nvGrpSpPr>
        <p:grpSpPr>
          <a:xfrm>
            <a:off x="-208702440" y="-212247000"/>
            <a:ext cx="218255760" cy="218670840"/>
            <a:chOff x="-208702440" y="-212247000"/>
            <a:chExt cx="218255760" cy="218670840"/>
          </a:xfrm>
        </p:grpSpPr>
        <p:grpSp>
          <p:nvGrpSpPr>
            <p:cNvPr id="4906" name="Group 108"/>
            <p:cNvGrpSpPr/>
            <p:nvPr/>
          </p:nvGrpSpPr>
          <p:grpSpPr>
            <a:xfrm>
              <a:off x="-208702440" y="-212247000"/>
              <a:ext cx="218255760" cy="217309680"/>
              <a:chOff x="-208702440" y="-212247000"/>
              <a:chExt cx="218255760" cy="217309680"/>
            </a:xfrm>
          </p:grpSpPr>
          <p:grpSp>
            <p:nvGrpSpPr>
              <p:cNvPr id="4907" name="Group 109"/>
              <p:cNvGrpSpPr/>
              <p:nvPr/>
            </p:nvGrpSpPr>
            <p:grpSpPr>
              <a:xfrm>
                <a:off x="7214760" y="4186080"/>
                <a:ext cx="2338560" cy="876600"/>
                <a:chOff x="7214760" y="4186080"/>
                <a:chExt cx="2338560" cy="876600"/>
              </a:xfrm>
            </p:grpSpPr>
            <p:sp>
              <p:nvSpPr>
                <p:cNvPr id="4908" name="Rectangle 110"/>
                <p:cNvSpPr/>
                <p:nvPr/>
              </p:nvSpPr>
              <p:spPr>
                <a:xfrm>
                  <a:off x="7214760" y="4186080"/>
                  <a:ext cx="1386000" cy="876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909" name="Picture 1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14760" y="4186080"/>
                  <a:ext cx="2338560" cy="87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10" name="Group 112"/>
              <p:cNvGrpSpPr/>
              <p:nvPr/>
            </p:nvGrpSpPr>
            <p:grpSpPr>
              <a:xfrm>
                <a:off x="-208702440" y="-212247000"/>
                <a:ext cx="216741240" cy="216822240"/>
                <a:chOff x="-208702440" y="-212247000"/>
                <a:chExt cx="216741240" cy="216822240"/>
              </a:xfrm>
            </p:grpSpPr>
            <p:grpSp>
              <p:nvGrpSpPr>
                <p:cNvPr id="4911" name="Group 113"/>
                <p:cNvGrpSpPr/>
                <p:nvPr/>
              </p:nvGrpSpPr>
              <p:grpSpPr>
                <a:xfrm>
                  <a:off x="-208702440" y="-212247000"/>
                  <a:ext cx="216741240" cy="216822240"/>
                  <a:chOff x="-208702440" y="-212247000"/>
                  <a:chExt cx="216741240" cy="216822240"/>
                </a:xfrm>
              </p:grpSpPr>
              <p:grpSp>
                <p:nvGrpSpPr>
                  <p:cNvPr id="4912" name="Group 114"/>
                  <p:cNvGrpSpPr/>
                  <p:nvPr/>
                </p:nvGrpSpPr>
                <p:grpSpPr>
                  <a:xfrm>
                    <a:off x="7854840" y="4370040"/>
                    <a:ext cx="183960" cy="205200"/>
                    <a:chOff x="7854840" y="4370040"/>
                    <a:chExt cx="183960" cy="205200"/>
                  </a:xfrm>
                </p:grpSpPr>
                <p:sp>
                  <p:nvSpPr>
                    <p:cNvPr id="4913" name="Line 115"/>
                    <p:cNvSpPr/>
                    <p:nvPr/>
                  </p:nvSpPr>
                  <p:spPr>
                    <a:xfrm flipV="1">
                      <a:off x="7940520" y="4390920"/>
                      <a:ext cx="1440" cy="76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4" name="Line 116"/>
                    <p:cNvSpPr/>
                    <p:nvPr/>
                  </p:nvSpPr>
                  <p:spPr>
                    <a:xfrm>
                      <a:off x="7854840" y="4565520"/>
                      <a:ext cx="20520" cy="180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5" name="Line 117"/>
                    <p:cNvSpPr/>
                    <p:nvPr/>
                  </p:nvSpPr>
                  <p:spPr>
                    <a:xfrm flipV="1">
                      <a:off x="7854840" y="4456080"/>
                      <a:ext cx="85680" cy="446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6" name="Line 118"/>
                    <p:cNvSpPr/>
                    <p:nvPr/>
                  </p:nvSpPr>
                  <p:spPr>
                    <a:xfrm>
                      <a:off x="7865640" y="4500720"/>
                      <a:ext cx="9720" cy="745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7" name="Line 119"/>
                    <p:cNvSpPr/>
                    <p:nvPr/>
                  </p:nvSpPr>
                  <p:spPr>
                    <a:xfrm>
                      <a:off x="7940520" y="4456080"/>
                      <a:ext cx="1440" cy="76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8" name="Line 120"/>
                    <p:cNvSpPr/>
                    <p:nvPr/>
                  </p:nvSpPr>
                  <p:spPr>
                    <a:xfrm flipV="1">
                      <a:off x="7951680" y="4510080"/>
                      <a:ext cx="33120" cy="22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9" name="Line 121"/>
                    <p:cNvSpPr/>
                    <p:nvPr/>
                  </p:nvSpPr>
                  <p:spPr>
                    <a:xfrm flipV="1">
                      <a:off x="7984800" y="4510080"/>
                      <a:ext cx="1800" cy="22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0" name="Line 122"/>
                    <p:cNvSpPr/>
                    <p:nvPr/>
                  </p:nvSpPr>
                  <p:spPr>
                    <a:xfrm flipV="1">
                      <a:off x="7865640" y="4370040"/>
                      <a:ext cx="86040" cy="428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1" name="Line 123"/>
                    <p:cNvSpPr/>
                    <p:nvPr/>
                  </p:nvSpPr>
                  <p:spPr>
                    <a:xfrm>
                      <a:off x="7951680" y="4370400"/>
                      <a:ext cx="87120" cy="76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22" name="Group 124"/>
                  <p:cNvGrpSpPr/>
                  <p:nvPr/>
                </p:nvGrpSpPr>
                <p:grpSpPr>
                  <a:xfrm>
                    <a:off x="7821360" y="4305240"/>
                    <a:ext cx="65160" cy="130320"/>
                    <a:chOff x="7821360" y="4305240"/>
                    <a:chExt cx="65160" cy="130320"/>
                  </a:xfrm>
                </p:grpSpPr>
                <p:sp>
                  <p:nvSpPr>
                    <p:cNvPr id="4923" name="Line 125"/>
                    <p:cNvSpPr/>
                    <p:nvPr/>
                  </p:nvSpPr>
                  <p:spPr>
                    <a:xfrm flipV="1">
                      <a:off x="7854840" y="4305240"/>
                      <a:ext cx="1440" cy="13032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4" name="Line 126"/>
                    <p:cNvSpPr/>
                    <p:nvPr/>
                  </p:nvSpPr>
                  <p:spPr>
                    <a:xfrm>
                      <a:off x="7821360" y="4348080"/>
                      <a:ext cx="65160" cy="180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25" name="Line 127"/>
                  <p:cNvSpPr/>
                  <p:nvPr/>
                </p:nvSpPr>
                <p:spPr>
                  <a:xfrm flipH="1" flipV="1">
                    <a:off x="-208693440" y="-212236560"/>
                    <a:ext cx="11160" cy="972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Line 128"/>
                  <p:cNvSpPr/>
                  <p:nvPr/>
                </p:nvSpPr>
                <p:spPr>
                  <a:xfrm flipH="1" flipV="1">
                    <a:off x="-208702440" y="-212247000"/>
                    <a:ext cx="9360" cy="10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7" name="Freeform 129"/>
                  <p:cNvSpPr/>
                  <p:nvPr/>
                </p:nvSpPr>
                <p:spPr>
                  <a:xfrm>
                    <a:off x="7930800" y="4294080"/>
                    <a:ext cx="54000" cy="76320"/>
                  </a:xfrm>
                  <a:prstGeom prst="pie">
                    <a:avLst/>
                  </a:prstGeom>
                  <a:solidFill>
                    <a:srgbClr val="ffff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8" name="Group 130"/>
                <p:cNvGrpSpPr/>
                <p:nvPr/>
              </p:nvGrpSpPr>
              <p:grpSpPr>
                <a:xfrm>
                  <a:off x="7421400" y="4435560"/>
                  <a:ext cx="345960" cy="92160"/>
                  <a:chOff x="7421400" y="4435560"/>
                  <a:chExt cx="345960" cy="92160"/>
                </a:xfrm>
              </p:grpSpPr>
              <p:sp>
                <p:nvSpPr>
                  <p:cNvPr id="4929" name="Line 131"/>
                  <p:cNvSpPr/>
                  <p:nvPr/>
                </p:nvSpPr>
                <p:spPr>
                  <a:xfrm>
                    <a:off x="7421400" y="4467240"/>
                    <a:ext cx="2196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Line 132"/>
                  <p:cNvSpPr/>
                  <p:nvPr/>
                </p:nvSpPr>
                <p:spPr>
                  <a:xfrm>
                    <a:off x="7475400" y="4467240"/>
                    <a:ext cx="2196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Line 133"/>
                  <p:cNvSpPr/>
                  <p:nvPr/>
                </p:nvSpPr>
                <p:spPr>
                  <a:xfrm>
                    <a:off x="7529400" y="4467240"/>
                    <a:ext cx="2196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Line 134"/>
                  <p:cNvSpPr/>
                  <p:nvPr/>
                </p:nvSpPr>
                <p:spPr>
                  <a:xfrm>
                    <a:off x="7583040" y="4467240"/>
                    <a:ext cx="223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Line 135"/>
                  <p:cNvSpPr/>
                  <p:nvPr/>
                </p:nvSpPr>
                <p:spPr>
                  <a:xfrm>
                    <a:off x="7637040" y="4467240"/>
                    <a:ext cx="223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4" name="Line 136"/>
                  <p:cNvSpPr/>
                  <p:nvPr/>
                </p:nvSpPr>
                <p:spPr>
                  <a:xfrm>
                    <a:off x="7691040" y="4467240"/>
                    <a:ext cx="223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5" name="Line 137"/>
                  <p:cNvSpPr/>
                  <p:nvPr/>
                </p:nvSpPr>
                <p:spPr>
                  <a:xfrm>
                    <a:off x="7746840" y="4467240"/>
                    <a:ext cx="205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36" name="Group 138"/>
                  <p:cNvGrpSpPr/>
                  <p:nvPr/>
                </p:nvGrpSpPr>
                <p:grpSpPr>
                  <a:xfrm>
                    <a:off x="7432560" y="4435560"/>
                    <a:ext cx="107640" cy="92160"/>
                    <a:chOff x="7432560" y="4435560"/>
                    <a:chExt cx="107640" cy="92160"/>
                  </a:xfrm>
                </p:grpSpPr>
                <p:sp>
                  <p:nvSpPr>
                    <p:cNvPr id="4937" name="Freeform 139"/>
                    <p:cNvSpPr/>
                    <p:nvPr/>
                  </p:nvSpPr>
                  <p:spPr>
                    <a:xfrm>
                      <a:off x="7432560" y="4435560"/>
                      <a:ext cx="107640" cy="54000"/>
                    </a:xfrm>
                    <a:prstGeom prst="pi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8" name="Arc 140"/>
                    <p:cNvSpPr/>
                    <p:nvPr/>
                  </p:nvSpPr>
                  <p:spPr>
                    <a:xfrm>
                      <a:off x="7437240" y="4435560"/>
                      <a:ext cx="98280" cy="48960"/>
                    </a:xfrm>
                    <a:prstGeom prst="pie">
                      <a:avLst/>
                    </a:pr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9" name="Freeform 141"/>
                    <p:cNvSpPr/>
                    <p:nvPr/>
                  </p:nvSpPr>
                  <p:spPr>
                    <a:xfrm>
                      <a:off x="7432560" y="4467240"/>
                      <a:ext cx="96840" cy="54000"/>
                    </a:xfrm>
                    <a:prstGeom prst="pi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0" name="Arc 142"/>
                    <p:cNvSpPr/>
                    <p:nvPr/>
                  </p:nvSpPr>
                  <p:spPr>
                    <a:xfrm>
                      <a:off x="7437240" y="4483080"/>
                      <a:ext cx="98280" cy="44640"/>
                    </a:xfrm>
                    <a:prstGeom prst="pie">
                      <a:avLst/>
                    </a:pr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41" name="Group 105"/>
            <p:cNvGrpSpPr/>
            <p:nvPr/>
          </p:nvGrpSpPr>
          <p:grpSpPr>
            <a:xfrm>
              <a:off x="4938840" y="4855680"/>
              <a:ext cx="3900240" cy="1568160"/>
              <a:chOff x="4938840" y="4855680"/>
              <a:chExt cx="3900240" cy="1568160"/>
            </a:xfrm>
          </p:grpSpPr>
          <p:sp>
            <p:nvSpPr>
              <p:cNvPr id="4942" name="Text Box 106"/>
              <p:cNvSpPr/>
              <p:nvPr/>
            </p:nvSpPr>
            <p:spPr>
              <a:xfrm>
                <a:off x="4938840" y="5964120"/>
                <a:ext cx="390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Comic Sans MS"/>
                  </a:rPr>
                  <a:t>BEST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LINCing Pi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Line 107"/>
              <p:cNvSpPr/>
              <p:nvPr/>
            </p:nvSpPr>
            <p:spPr>
              <a:xfrm flipV="1">
                <a:off x="6684840" y="4855680"/>
                <a:ext cx="782640" cy="1087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4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45" name="Rectangle 3"/>
          <p:cNvSpPr/>
          <p:nvPr/>
        </p:nvSpPr>
        <p:spPr>
          <a:xfrm>
            <a:off x="241200" y="190512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6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47" name="AutoShape 3"/>
          <p:cNvSpPr/>
          <p:nvPr/>
        </p:nvSpPr>
        <p:spPr>
          <a:xfrm>
            <a:off x="5326200" y="411120"/>
            <a:ext cx="2412720" cy="1536840"/>
          </a:xfrm>
          <a:prstGeom prst="wedgeRoundRectCallout">
            <a:avLst>
              <a:gd name="adj1" fmla="val -135393"/>
              <a:gd name="adj2" fmla="val 4855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Cing story does not contain reminding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Rectangle 4"/>
          <p:cNvSpPr/>
          <p:nvPr/>
        </p:nvSpPr>
        <p:spPr>
          <a:xfrm>
            <a:off x="241200" y="302256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AutoShape 6"/>
          <p:cNvSpPr/>
          <p:nvPr/>
        </p:nvSpPr>
        <p:spPr>
          <a:xfrm>
            <a:off x="844560" y="4508640"/>
            <a:ext cx="3311640" cy="1576080"/>
          </a:xfrm>
          <a:prstGeom prst="wedgeRoundRectCallout">
            <a:avLst>
              <a:gd name="adj1" fmla="val 67689"/>
              <a:gd name="adj2" fmla="val -167824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ing picture does not illustrat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4" dur="5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0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51" name="Rectangle 3"/>
          <p:cNvSpPr/>
          <p:nvPr/>
        </p:nvSpPr>
        <p:spPr>
          <a:xfrm>
            <a:off x="241200" y="415296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AutoShape 4"/>
          <p:cNvSpPr/>
          <p:nvPr/>
        </p:nvSpPr>
        <p:spPr>
          <a:xfrm>
            <a:off x="165240" y="1417680"/>
            <a:ext cx="2760480" cy="1173240"/>
          </a:xfrm>
          <a:prstGeom prst="wedgeEllipseCallout">
            <a:avLst>
              <a:gd name="adj1" fmla="val 38500"/>
              <a:gd name="adj2" fmla="val 9506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Cing story does not contain reminding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AutoShape 5"/>
          <p:cNvSpPr/>
          <p:nvPr/>
        </p:nvSpPr>
        <p:spPr>
          <a:xfrm>
            <a:off x="3645000" y="1257480"/>
            <a:ext cx="2725560" cy="1054080"/>
          </a:xfrm>
          <a:prstGeom prst="wedgeEllipseCallout">
            <a:avLst>
              <a:gd name="adj1" fmla="val -60074"/>
              <a:gd name="adj2" fmla="val 1158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Cing story doesn’t connect to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4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55" name="Rectangle 3"/>
          <p:cNvSpPr/>
          <p:nvPr/>
        </p:nvSpPr>
        <p:spPr>
          <a:xfrm>
            <a:off x="241200" y="534672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AutoShape 4"/>
          <p:cNvSpPr/>
          <p:nvPr/>
        </p:nvSpPr>
        <p:spPr>
          <a:xfrm>
            <a:off x="627120" y="1536840"/>
            <a:ext cx="2727360" cy="1122120"/>
          </a:xfrm>
          <a:prstGeom prst="wedgeEllipseCallout">
            <a:avLst>
              <a:gd name="adj1" fmla="val 27009"/>
              <a:gd name="adj2" fmla="val 18012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INCing story does not contain reminding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AutoShape 5"/>
          <p:cNvSpPr/>
          <p:nvPr/>
        </p:nvSpPr>
        <p:spPr>
          <a:xfrm>
            <a:off x="3645000" y="1359000"/>
            <a:ext cx="2743200" cy="952560"/>
          </a:xfrm>
          <a:prstGeom prst="wedgeEllipseCallout">
            <a:avLst>
              <a:gd name="adj1" fmla="val 70546"/>
              <a:gd name="adj2" fmla="val 254833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finition is 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8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59" name="AutoShape 3"/>
          <p:cNvSpPr/>
          <p:nvPr/>
        </p:nvSpPr>
        <p:spPr>
          <a:xfrm>
            <a:off x="2273400" y="3094200"/>
            <a:ext cx="2709720" cy="1325520"/>
          </a:xfrm>
          <a:prstGeom prst="wedgeEllipseCallout">
            <a:avLst>
              <a:gd name="adj1" fmla="val -40921"/>
              <a:gd name="adj2" fmla="val 122453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INCing story does not make s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AutoShape 4"/>
          <p:cNvSpPr/>
          <p:nvPr/>
        </p:nvSpPr>
        <p:spPr>
          <a:xfrm>
            <a:off x="6477120" y="4013280"/>
            <a:ext cx="1511280" cy="749160"/>
          </a:xfrm>
          <a:prstGeom prst="wedgeEllipseCallout">
            <a:avLst>
              <a:gd name="adj1" fmla="val 45273"/>
              <a:gd name="adj2" fmla="val 1341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INCS rub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3" name="Picture 4" descr=""/>
          <p:cNvPicPr/>
          <p:nvPr/>
        </p:nvPicPr>
        <p:blipFill>
          <a:blip r:embed="rId1"/>
          <a:stretch/>
        </p:blipFill>
        <p:spPr>
          <a:xfrm>
            <a:off x="2374920" y="1523880"/>
            <a:ext cx="4394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347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349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350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351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352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5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356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8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359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2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363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7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368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369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370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1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372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373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76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377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8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9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80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1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383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384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385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86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387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388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9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0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91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392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3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4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95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6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7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2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403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6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7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8"/>
          <p:cNvSpPr/>
          <p:nvPr/>
        </p:nvSpPr>
        <p:spPr>
          <a:xfrm>
            <a:off x="4762440" y="355608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9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0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1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2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3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6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7"/>
          <p:cNvSpPr/>
          <p:nvPr/>
        </p:nvSpPr>
        <p:spPr>
          <a:xfrm>
            <a:off x="2913120" y="579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78"/>
          <p:cNvSpPr/>
          <p:nvPr/>
        </p:nvSpPr>
        <p:spPr>
          <a:xfrm>
            <a:off x="2913120" y="99864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e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79"/>
          <p:cNvSpPr/>
          <p:nvPr/>
        </p:nvSpPr>
        <p:spPr>
          <a:xfrm>
            <a:off x="2913120" y="137016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ct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0"/>
          <p:cNvSpPr/>
          <p:nvPr/>
        </p:nvSpPr>
        <p:spPr>
          <a:xfrm>
            <a:off x="1792440" y="2087640"/>
            <a:ext cx="68562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ncludes something related to Reminding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elps you remember the new term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81"/>
          <p:cNvGrpSpPr/>
          <p:nvPr/>
        </p:nvGrpSpPr>
        <p:grpSpPr>
          <a:xfrm>
            <a:off x="6819840" y="3768840"/>
            <a:ext cx="3352680" cy="2057040"/>
            <a:chOff x="6819840" y="3768840"/>
            <a:chExt cx="3352680" cy="2057040"/>
          </a:xfrm>
        </p:grpSpPr>
        <p:grpSp>
          <p:nvGrpSpPr>
            <p:cNvPr id="425" name="Group 82"/>
            <p:cNvGrpSpPr/>
            <p:nvPr/>
          </p:nvGrpSpPr>
          <p:grpSpPr>
            <a:xfrm>
              <a:off x="6819840" y="3768840"/>
              <a:ext cx="1761120" cy="709200"/>
              <a:chOff x="6819840" y="3768840"/>
              <a:chExt cx="1761120" cy="709200"/>
            </a:xfrm>
          </p:grpSpPr>
          <p:sp>
            <p:nvSpPr>
              <p:cNvPr id="426" name="Rectangle 83"/>
              <p:cNvSpPr/>
              <p:nvPr/>
            </p:nvSpPr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7" name="Picture 84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8" name="Picture 85" descr=""/>
            <p:cNvPicPr/>
            <p:nvPr/>
          </p:nvPicPr>
          <p:blipFill>
            <a:blip r:embed="rId2"/>
            <a:stretch/>
          </p:blipFill>
          <p:spPr>
            <a:xfrm>
              <a:off x="7333560" y="3768840"/>
              <a:ext cx="2838960" cy="205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4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5" name="Picture 2" descr=""/>
          <p:cNvPicPr/>
          <p:nvPr/>
        </p:nvPicPr>
        <p:blipFill>
          <a:blip r:embed="rId1"/>
          <a:stretch/>
        </p:blipFill>
        <p:spPr>
          <a:xfrm>
            <a:off x="209520" y="1860480"/>
            <a:ext cx="8724960" cy="3137040"/>
          </a:xfrm>
          <a:prstGeom prst="rect">
            <a:avLst/>
          </a:prstGeom>
          <a:ln w="0">
            <a:noFill/>
          </a:ln>
        </p:spPr>
      </p:pic>
      <p:sp>
        <p:nvSpPr>
          <p:cNvPr id="4966" name="Rectangle 3"/>
          <p:cNvSpPr/>
          <p:nvPr/>
        </p:nvSpPr>
        <p:spPr>
          <a:xfrm>
            <a:off x="4917960" y="2498760"/>
            <a:ext cx="2635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430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432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433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434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435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8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439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1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442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3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4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5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446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7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8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0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451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452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453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4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455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456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7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9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460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1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2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3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4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5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466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467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468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69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470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471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2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3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4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475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78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9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0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5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486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89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7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8"/>
          <p:cNvSpPr/>
          <p:nvPr/>
        </p:nvSpPr>
        <p:spPr>
          <a:xfrm>
            <a:off x="4762440" y="355608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9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0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1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2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3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4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75"/>
          <p:cNvSpPr/>
          <p:nvPr/>
        </p:nvSpPr>
        <p:spPr>
          <a:xfrm>
            <a:off x="2913120" y="579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76"/>
          <p:cNvSpPr/>
          <p:nvPr/>
        </p:nvSpPr>
        <p:spPr>
          <a:xfrm>
            <a:off x="2913120" y="99864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e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77"/>
          <p:cNvSpPr/>
          <p:nvPr/>
        </p:nvSpPr>
        <p:spPr>
          <a:xfrm>
            <a:off x="2913120" y="137016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ct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78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80"/>
          <p:cNvGrpSpPr/>
          <p:nvPr/>
        </p:nvGrpSpPr>
        <p:grpSpPr>
          <a:xfrm>
            <a:off x="6819840" y="3768840"/>
            <a:ext cx="3352680" cy="2057040"/>
            <a:chOff x="6819840" y="3768840"/>
            <a:chExt cx="3352680" cy="2057040"/>
          </a:xfrm>
        </p:grpSpPr>
        <p:grpSp>
          <p:nvGrpSpPr>
            <p:cNvPr id="507" name="Group 81"/>
            <p:cNvGrpSpPr/>
            <p:nvPr/>
          </p:nvGrpSpPr>
          <p:grpSpPr>
            <a:xfrm>
              <a:off x="6819840" y="3768840"/>
              <a:ext cx="1761120" cy="709200"/>
              <a:chOff x="6819840" y="3768840"/>
              <a:chExt cx="1761120" cy="709200"/>
            </a:xfrm>
          </p:grpSpPr>
          <p:sp>
            <p:nvSpPr>
              <p:cNvPr id="508" name="Rectangle 82"/>
              <p:cNvSpPr/>
              <p:nvPr/>
            </p:nvSpPr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9" name="Picture 83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0" name="Picture 84" descr=""/>
            <p:cNvPicPr/>
            <p:nvPr/>
          </p:nvPicPr>
          <p:blipFill>
            <a:blip r:embed="rId2"/>
            <a:stretch/>
          </p:blipFill>
          <p:spPr>
            <a:xfrm>
              <a:off x="7333560" y="3768840"/>
              <a:ext cx="283896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 Box 85"/>
          <p:cNvSpPr/>
          <p:nvPr/>
        </p:nvSpPr>
        <p:spPr>
          <a:xfrm>
            <a:off x="2913120" y="1722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f-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6"/>
          <p:cNvSpPr/>
          <p:nvPr/>
        </p:nvSpPr>
        <p:spPr>
          <a:xfrm>
            <a:off x="0" y="5502240"/>
            <a:ext cx="91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1.  Define compromise and explain its role in order for a bill to become a law.</a:t>
            </a: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7"/>
          <p:cNvSpPr/>
          <p:nvPr/>
        </p:nvSpPr>
        <p:spPr>
          <a:xfrm>
            <a:off x="0" y="6010200"/>
            <a:ext cx="91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2.  Senators often have to _______ with other senators in order to get a new bill passed into la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3" presetSubtype="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3" presetSubtype="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516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518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519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520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521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4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525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27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528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31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532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3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4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5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36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537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538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539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40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541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542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3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5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546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8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549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0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552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553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554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55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556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557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8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60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561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2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3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564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65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66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1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572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75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7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580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581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2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3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593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595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596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597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598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1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602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04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605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08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609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0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1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2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13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614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615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616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17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618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619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0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1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22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623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4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5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626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7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8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629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630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631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32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633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634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5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6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37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638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9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0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641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42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3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48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649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1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52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657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659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660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661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662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5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666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8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669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1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72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673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5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77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678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679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680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81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682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683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4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5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6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687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690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91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2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693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694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695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96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697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698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9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00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01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702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03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04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705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06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7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2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713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5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16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8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0" name="Text Box 311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12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13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14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315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725" name="Rectangle 316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17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318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319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320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321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Rectangle 348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49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50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51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352"/>
          <p:cNvGrpSpPr/>
          <p:nvPr/>
        </p:nvGrpSpPr>
        <p:grpSpPr>
          <a:xfrm>
            <a:off x="6659640" y="3772080"/>
            <a:ext cx="1995480" cy="880920"/>
            <a:chOff x="6659640" y="3772080"/>
            <a:chExt cx="1995480" cy="880920"/>
          </a:xfrm>
        </p:grpSpPr>
        <p:grpSp>
          <p:nvGrpSpPr>
            <p:cNvPr id="736" name="Group 353"/>
            <p:cNvGrpSpPr/>
            <p:nvPr/>
          </p:nvGrpSpPr>
          <p:grpSpPr>
            <a:xfrm>
              <a:off x="6659640" y="3772080"/>
              <a:ext cx="1995480" cy="880920"/>
              <a:chOff x="6659640" y="3772080"/>
              <a:chExt cx="1995480" cy="880920"/>
            </a:xfrm>
          </p:grpSpPr>
          <p:grpSp>
            <p:nvGrpSpPr>
              <p:cNvPr id="737" name="Group 354"/>
              <p:cNvGrpSpPr/>
              <p:nvPr/>
            </p:nvGrpSpPr>
            <p:grpSpPr>
              <a:xfrm>
                <a:off x="6659640" y="3813120"/>
                <a:ext cx="1995480" cy="839880"/>
                <a:chOff x="6659640" y="3813120"/>
                <a:chExt cx="1995480" cy="839880"/>
              </a:xfrm>
            </p:grpSpPr>
            <p:sp>
              <p:nvSpPr>
                <p:cNvPr id="738" name="Rectangle 355"/>
                <p:cNvSpPr/>
                <p:nvPr/>
              </p:nvSpPr>
              <p:spPr>
                <a:xfrm>
                  <a:off x="6659640" y="3813120"/>
                  <a:ext cx="11617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9" name="Picture 35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59640" y="3813120"/>
                  <a:ext cx="1995480" cy="83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40" name="Rectangle 357"/>
              <p:cNvSpPr/>
              <p:nvPr/>
            </p:nvSpPr>
            <p:spPr>
              <a:xfrm>
                <a:off x="7913880" y="3772080"/>
                <a:ext cx="524880" cy="788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58"/>
              <p:cNvSpPr/>
              <p:nvPr/>
            </p:nvSpPr>
            <p:spPr>
              <a:xfrm>
                <a:off x="7946640" y="3817440"/>
                <a:ext cx="450720" cy="67608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59"/>
            <p:cNvSpPr/>
            <p:nvPr/>
          </p:nvSpPr>
          <p:spPr>
            <a:xfrm flipV="1">
              <a:off x="8017920" y="3812760"/>
              <a:ext cx="144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360"/>
            <p:cNvSpPr/>
            <p:nvPr/>
          </p:nvSpPr>
          <p:spPr>
            <a:xfrm flipV="1">
              <a:off x="8093160" y="3812760"/>
              <a:ext cx="108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61"/>
            <p:cNvSpPr/>
            <p:nvPr/>
          </p:nvSpPr>
          <p:spPr>
            <a:xfrm flipV="1">
              <a:off x="8176320" y="3812760"/>
              <a:ext cx="108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362"/>
            <p:cNvSpPr/>
            <p:nvPr/>
          </p:nvSpPr>
          <p:spPr>
            <a:xfrm flipV="1">
              <a:off x="8260920" y="3812760"/>
              <a:ext cx="108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63"/>
            <p:cNvSpPr/>
            <p:nvPr/>
          </p:nvSpPr>
          <p:spPr>
            <a:xfrm flipV="1">
              <a:off x="8335800" y="3812760"/>
              <a:ext cx="144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364"/>
            <p:cNvSpPr/>
            <p:nvPr/>
          </p:nvSpPr>
          <p:spPr>
            <a:xfrm>
              <a:off x="8008560" y="3863880"/>
              <a:ext cx="2847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65"/>
          <p:cNvSpPr/>
          <p:nvPr/>
        </p:nvSpPr>
        <p:spPr>
          <a:xfrm>
            <a:off x="5502240" y="3187800"/>
            <a:ext cx="1373400" cy="8636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366"/>
          <p:cNvSpPr/>
          <p:nvPr/>
        </p:nvSpPr>
        <p:spPr>
          <a:xfrm>
            <a:off x="0" y="57780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the problem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35"/>
          <p:cNvSpPr/>
          <p:nvPr/>
        </p:nvSpPr>
        <p:spPr>
          <a:xfrm>
            <a:off x="812880" y="67320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LINCing Picture depicts the Prez as convicted &amp; headed for j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36"/>
          <p:cNvSpPr/>
          <p:nvPr/>
        </p:nvSpPr>
        <p:spPr>
          <a:xfrm>
            <a:off x="901800" y="26035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w the LINCing Picture show the Prez being arrested (charged with a c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37"/>
          <p:cNvSpPr/>
          <p:nvPr/>
        </p:nvSpPr>
        <p:spPr>
          <a:xfrm>
            <a:off x="3949560" y="142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not accurate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45"/>
          <p:cNvSpPr/>
          <p:nvPr/>
        </p:nvSpPr>
        <p:spPr>
          <a:xfrm>
            <a:off x="3121200" y="27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756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758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759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760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761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64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765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6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67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768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9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71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772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3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5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6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777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778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779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780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781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782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3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4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85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786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7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8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789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90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1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792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793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794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795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796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797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98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99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00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801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02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03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04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05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06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1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812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5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7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820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821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2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3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833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835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836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837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838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1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842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3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4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845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48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849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0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1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2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3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854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855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856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857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858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859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0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1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62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863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4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5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66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67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8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869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870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871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872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873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874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75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76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77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878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79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80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81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82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83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88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889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92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4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6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897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899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900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901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902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5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906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7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08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909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0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1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12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913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4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5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6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7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918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919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920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21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922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923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4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5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926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927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8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9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930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31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2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933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934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935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36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937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938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9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40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941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942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43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44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945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46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47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52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953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5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56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0" name="Text Box 208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09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10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211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212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965" name="Rectangle 213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Rectangle 214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215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216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217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218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Rectangle 21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2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2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2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236"/>
          <p:cNvSpPr/>
          <p:nvPr/>
        </p:nvSpPr>
        <p:spPr>
          <a:xfrm>
            <a:off x="5502240" y="3187800"/>
            <a:ext cx="1373400" cy="8636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237"/>
          <p:cNvSpPr/>
          <p:nvPr/>
        </p:nvSpPr>
        <p:spPr>
          <a:xfrm>
            <a:off x="0" y="57780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the problem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Group 238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978" name="Group 239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979" name="Group 240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980" name="Group 241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981" name="Group 242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982" name="Line 243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3" name="Group 244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984" name="Oval 245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5" name="Oval 246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6" name="Oval 247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7" name="AutoShape 248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8" name="Line 249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9" name="Line 250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0" name="Oval 251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91" name="Line 252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2" name="Oval 253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254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Freeform 255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256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257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258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998" name="Oval 259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260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0" name="Group 261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1001" name="Oval 262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2" name="Group 263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1003" name="Line 264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Oval 265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Line 266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Line 267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Freeform 268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Oval 269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AutoShape 270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Line 271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11" name="Text Box 272"/>
          <p:cNvSpPr/>
          <p:nvPr/>
        </p:nvSpPr>
        <p:spPr>
          <a:xfrm>
            <a:off x="812880" y="67320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LINCing Picture depicts the Prez as convicted &amp; headed for j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73"/>
          <p:cNvSpPr/>
          <p:nvPr/>
        </p:nvSpPr>
        <p:spPr>
          <a:xfrm>
            <a:off x="901800" y="26035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w the LINCing Picture show the Prez being arrested (charged with a c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274"/>
          <p:cNvSpPr/>
          <p:nvPr/>
        </p:nvSpPr>
        <p:spPr>
          <a:xfrm>
            <a:off x="3949560" y="142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not accurate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75"/>
          <p:cNvSpPr/>
          <p:nvPr/>
        </p:nvSpPr>
        <p:spPr>
          <a:xfrm>
            <a:off x="3121200" y="27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1017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1019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1020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1021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1022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5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1026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7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8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1029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0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32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1033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4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6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37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1038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1039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1040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41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1042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1043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4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5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46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1047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8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9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050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51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2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1053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1054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1055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56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1057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1058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59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60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61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1062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63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64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065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66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67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72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1073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4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5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76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8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0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1081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1082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3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84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1094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1096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1097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1098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1099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02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1103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4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5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1106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09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1110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1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2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3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14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1115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1116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1117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18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1119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1120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1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2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123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1124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5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6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27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28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9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1130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1131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1132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33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1134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1135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36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37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138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1139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40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41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42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43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44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49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1150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53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5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1158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1160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1161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1162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1163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66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1167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8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9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1170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1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2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73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1174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5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6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7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78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1179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1180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1181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82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1183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1184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5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6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187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1188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9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90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91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92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93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1194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1195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1196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97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1198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1199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0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1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202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1203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4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5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206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07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08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13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1214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17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9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1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1222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1224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1225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1226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1227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30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1231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33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1234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5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6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37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1238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9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0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1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42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1243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1244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1245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46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1247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1248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49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0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251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1252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3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4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255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56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7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1258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1259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1260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61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1262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1263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4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5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266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1267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8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9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270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71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72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5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6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7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1278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0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81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3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1290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86"/>
          <p:cNvSpPr/>
          <p:nvPr/>
        </p:nvSpPr>
        <p:spPr>
          <a:xfrm>
            <a:off x="2590920" y="5407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Voters choose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1301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1302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3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1304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326"/>
          <p:cNvSpPr/>
          <p:nvPr/>
        </p:nvSpPr>
        <p:spPr>
          <a:xfrm>
            <a:off x="5502240" y="4572000"/>
            <a:ext cx="1373400" cy="8636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328"/>
          <p:cNvSpPr/>
          <p:nvPr/>
        </p:nvSpPr>
        <p:spPr>
          <a:xfrm flipH="1">
            <a:off x="3115800" y="4392720"/>
            <a:ext cx="1219320" cy="105552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Group 330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1329" name="Group 331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1330" name="Group 332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1331" name="Group 333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1332" name="Group 334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1333" name="Line 335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34" name="Group 336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1335" name="Oval 337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Oval 338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Oval 339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AutoShape 340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Line 341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Line 342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Oval 343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2" name="Line 344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3" name="Oval 345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346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Freeform 347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Oval 348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AutoShape 349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Group 350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1349" name="Oval 351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Oval 352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1" name="Group 353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1352" name="Oval 354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3" name="Group 355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1354" name="Line 356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Oval 357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Line 358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Line 359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Freeform 360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Oval 361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AutoShape 362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Line 363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362" name="AutoShape 327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6:39:39Z</dcterms:created>
  <dc:creator>Edwin Ellis</dc:creator>
  <dc:description/>
  <dc:language>en-US</dc:language>
  <cp:lastModifiedBy>mms.altiris</cp:lastModifiedBy>
  <dcterms:modified xsi:type="dcterms:W3CDTF">2010-05-18T12:18:22Z</dcterms:modified>
  <cp:revision>112</cp:revision>
  <dc:subject/>
  <dc:title>The LINCing Routine</dc:title>
</cp:coreProperties>
</file>